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2193588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1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2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3971520" y="0"/>
            <a:ext cx="303228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82600" y="698040"/>
            <a:ext cx="4640400" cy="34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23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1"/>
          </p:nvPr>
        </p:nvSpPr>
        <p:spPr>
          <a:xfrm>
            <a:off x="-360" y="8830800"/>
            <a:ext cx="303228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2"/>
          </p:nvPr>
        </p:nvSpPr>
        <p:spPr>
          <a:xfrm>
            <a:off x="3971520" y="8830800"/>
            <a:ext cx="3032280" cy="45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9360"/>
                <a:tab algn="l" pos="2173320"/>
                <a:tab algn="l" pos="2898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9360"/>
                <a:tab algn="l" pos="2173320"/>
                <a:tab algn="l" pos="2898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90280-53E5-4927-892B-41A02264CF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9"/>
          <p:cNvSpPr/>
          <p:nvPr/>
        </p:nvSpPr>
        <p:spPr>
          <a:xfrm>
            <a:off x="3971880" y="8831160"/>
            <a:ext cx="30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marL="214200" indent="-210960" algn="r">
              <a:lnSpc>
                <a:spcPct val="100000"/>
              </a:lnSpc>
              <a:tabLst>
                <a:tab algn="l" pos="0"/>
                <a:tab algn="l" pos="722160"/>
                <a:tab algn="l" pos="1447920"/>
                <a:tab algn="l" pos="2173320"/>
                <a:tab algn="l" pos="28972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CBD97-9A25-4F8F-A1AF-A8146ADADF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0400" cy="34815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23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971880" y="8831160"/>
            <a:ext cx="30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723960"/>
                <a:tab algn="l" pos="1449360"/>
                <a:tab algn="l" pos="2173320"/>
                <a:tab algn="l" pos="2898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F24AD-40DC-4829-B66B-4F2BCA9BA9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9"/>
          <p:cNvSpPr/>
          <p:nvPr/>
        </p:nvSpPr>
        <p:spPr>
          <a:xfrm>
            <a:off x="3971880" y="8831160"/>
            <a:ext cx="30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marL="214200" indent="-210960" algn="r">
              <a:lnSpc>
                <a:spcPct val="100000"/>
              </a:lnSpc>
              <a:tabLst>
                <a:tab algn="l" pos="0"/>
                <a:tab algn="l" pos="722160"/>
                <a:tab algn="l" pos="1447920"/>
                <a:tab algn="l" pos="2173320"/>
                <a:tab algn="l" pos="28972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34D3F-38C2-4BBB-950D-BE58C0BB7E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9"/>
          <p:cNvSpPr/>
          <p:nvPr/>
        </p:nvSpPr>
        <p:spPr>
          <a:xfrm>
            <a:off x="3971880" y="8831160"/>
            <a:ext cx="30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marL="214200" indent="-210960" algn="r">
              <a:lnSpc>
                <a:spcPct val="100000"/>
              </a:lnSpc>
              <a:tabLst>
                <a:tab algn="l" pos="0"/>
                <a:tab algn="l" pos="722160"/>
                <a:tab algn="l" pos="1447920"/>
                <a:tab algn="l" pos="2173320"/>
                <a:tab algn="l" pos="28972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5CF65-3790-4E60-AFF8-53E4C70C55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0400" cy="34815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23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971880" y="8831160"/>
            <a:ext cx="30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723960"/>
                <a:tab algn="l" pos="1449360"/>
                <a:tab algn="l" pos="2173320"/>
                <a:tab algn="l" pos="2898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38D8B-8C7A-4EF6-AC5E-589DD23E21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9"/>
          <p:cNvSpPr/>
          <p:nvPr/>
        </p:nvSpPr>
        <p:spPr>
          <a:xfrm>
            <a:off x="3971880" y="8831160"/>
            <a:ext cx="30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marL="214200" indent="-210960" algn="r">
              <a:lnSpc>
                <a:spcPct val="100000"/>
              </a:lnSpc>
              <a:tabLst>
                <a:tab algn="l" pos="0"/>
                <a:tab algn="l" pos="722160"/>
                <a:tab algn="l" pos="1447920"/>
                <a:tab algn="l" pos="2173320"/>
                <a:tab algn="l" pos="28972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C0CBF-B251-4C4C-9FC4-79F54E7E5A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3971880" y="8831160"/>
            <a:ext cx="30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marL="214200" indent="-210960" algn="r">
              <a:lnSpc>
                <a:spcPct val="100000"/>
              </a:lnSpc>
              <a:tabLst>
                <a:tab algn="l" pos="0"/>
                <a:tab algn="l" pos="722160"/>
                <a:tab algn="l" pos="1447920"/>
                <a:tab algn="l" pos="2173320"/>
                <a:tab algn="l" pos="28972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4FC90-5E36-4E99-AC9D-F62E226E12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9"/>
          <p:cNvSpPr/>
          <p:nvPr/>
        </p:nvSpPr>
        <p:spPr>
          <a:xfrm>
            <a:off x="3971880" y="8831160"/>
            <a:ext cx="30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marL="214200" indent="-210960" algn="r">
              <a:lnSpc>
                <a:spcPct val="100000"/>
              </a:lnSpc>
              <a:tabLst>
                <a:tab algn="l" pos="0"/>
                <a:tab algn="l" pos="722160"/>
                <a:tab algn="l" pos="1447920"/>
                <a:tab algn="l" pos="2173320"/>
                <a:tab algn="l" pos="28972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981F7-86F8-4485-B2F7-B3BC1CFEFB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9"/>
          <p:cNvSpPr/>
          <p:nvPr/>
        </p:nvSpPr>
        <p:spPr>
          <a:xfrm>
            <a:off x="3971880" y="8831160"/>
            <a:ext cx="30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marL="214200" indent="-210960" algn="r">
              <a:lnSpc>
                <a:spcPct val="100000"/>
              </a:lnSpc>
              <a:tabLst>
                <a:tab algn="l" pos="0"/>
                <a:tab algn="l" pos="722160"/>
                <a:tab algn="l" pos="1447920"/>
                <a:tab algn="l" pos="2173320"/>
                <a:tab algn="l" pos="28972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AF690-59FD-4106-9C21-6E1FDBFAF5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9"/>
          <p:cNvSpPr/>
          <p:nvPr/>
        </p:nvSpPr>
        <p:spPr>
          <a:xfrm>
            <a:off x="3971880" y="8831160"/>
            <a:ext cx="30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marL="214200" indent="-210960" algn="r">
              <a:lnSpc>
                <a:spcPct val="100000"/>
              </a:lnSpc>
              <a:tabLst>
                <a:tab algn="l" pos="0"/>
                <a:tab algn="l" pos="722160"/>
                <a:tab algn="l" pos="1447920"/>
                <a:tab algn="l" pos="2173320"/>
                <a:tab algn="l" pos="28972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DA49A-8686-4F08-913F-74A7FEBCA2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9"/>
          <p:cNvSpPr/>
          <p:nvPr/>
        </p:nvSpPr>
        <p:spPr>
          <a:xfrm>
            <a:off x="3971880" y="8831160"/>
            <a:ext cx="30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marL="214200" indent="-210960" algn="r">
              <a:lnSpc>
                <a:spcPct val="100000"/>
              </a:lnSpc>
              <a:tabLst>
                <a:tab algn="l" pos="0"/>
                <a:tab algn="l" pos="722160"/>
                <a:tab algn="l" pos="1447920"/>
                <a:tab algn="l" pos="2173320"/>
                <a:tab algn="l" pos="28972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729A7-3958-408F-9304-141F4A32BE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9"/>
          <p:cNvSpPr/>
          <p:nvPr/>
        </p:nvSpPr>
        <p:spPr>
          <a:xfrm>
            <a:off x="3971880" y="8831160"/>
            <a:ext cx="30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marL="214200" indent="-210960" algn="r">
              <a:lnSpc>
                <a:spcPct val="100000"/>
              </a:lnSpc>
              <a:tabLst>
                <a:tab algn="l" pos="0"/>
                <a:tab algn="l" pos="722160"/>
                <a:tab algn="l" pos="1447920"/>
                <a:tab algn="l" pos="2173320"/>
                <a:tab algn="l" pos="28972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7D0A3-E22E-4D10-A920-069BF2EAC4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0400" cy="34815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23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971880" y="8831160"/>
            <a:ext cx="30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723960"/>
                <a:tab algn="l" pos="1449360"/>
                <a:tab algn="l" pos="2173320"/>
                <a:tab algn="l" pos="2898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6838C-89FD-41D2-883E-FB7228A1CA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3E3-491F-474C-92F2-775D6997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A49-7267-4184-A4EE-83A7FFDA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906-0F8E-4C82-954F-9A350B0B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746-5821-433F-9A40-4E364FA3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9393-8A73-4DD4-8516-74D15274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38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8C2F-F78E-48A4-8F51-FF79A1BB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CFD8-8051-4EBD-A5BA-A39A0AC9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69C5-2ACC-4CA1-8E32-B8DFFEE7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3CAB-62DC-4A2E-94F5-036570B4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487440"/>
            <a:ext cx="1051560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38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F7DA-D306-44AF-8698-5487CA22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684C-862A-4FD4-A957-07C8E3A3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38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661-EBC9-4577-BDB0-97044CB5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9CCB-8284-4CB3-B853-6D0B9446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53FB-16C5-4CD8-9D81-7649E04C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2B46-8FBC-4221-8114-E0C20BB7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86D3-ED8F-4A44-A873-310F013A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4C27-5D27-4151-8DFC-E77CD16C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38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CAB-ADC9-4095-9B43-5702C8E4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487440"/>
            <a:ext cx="1051560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38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1734E-4BEF-4199-9A7B-A07F98F0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38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63155-C331-42CC-82BA-E8FE5E2F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1BB97-8CEA-4C85-915D-369AFE31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CA5-F5F7-40D5-8F89-7EC66321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5244-6F92-4CCC-A2AC-D27498D4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4631E-CEB2-4B82-BC55-93A54C05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487440"/>
            <a:ext cx="1051560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38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7CF0-8A5E-4FC3-8726-3FCD17F1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CA1B8-74BC-4C07-8BE0-56DABD1F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EBF72-B68F-42B3-9858-DFF42122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58A8B-3335-4EE6-A50E-A9FE9986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CA1F-DD94-4156-A56B-F004E758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8D66E-F08A-4B06-A180-DFFBB828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FBB5F-E2BD-4044-A87E-8A27535B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991F-CF94-4A86-98E9-6500C8B9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487440"/>
            <a:ext cx="1051560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38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9B8-94BD-4CFB-8297-99279533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379-B015-45C1-A11C-F8178FB7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4FE-93D3-4652-A28B-C68B16AC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DBD-F0CE-49A4-AC32-B549A08D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3120" indent="-30312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9129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522440" indent="-30312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2131920" indent="-30312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7417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7417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7417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8475480"/>
            <a:ext cx="2743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8475480"/>
            <a:ext cx="4114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8475480"/>
            <a:ext cx="2743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5C038-3F0D-44A2-841D-7970026EF85C}" type="slidenum">
              <a:rPr b="0" lang="en-US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8656560"/>
            <a:ext cx="12192120" cy="48744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0"/>
            <a:ext cx="12192120" cy="48744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3120" indent="-30312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9129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522440" indent="-30312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2131920" indent="-30312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7417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7417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7417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8475480"/>
            <a:ext cx="2743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Times New Roman"/>
              </a:rPr>
              <a:t>1/1/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8475480"/>
            <a:ext cx="4114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Times New Roman"/>
              </a:rPr>
              <a:t>D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8475480"/>
            <a:ext cx="2743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FE6FD-D8BD-4006-913F-ACD2B19B1DD7}" type="slidenum">
              <a:rPr b="0" lang="en-US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12192120" cy="48744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3120" indent="-30312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9129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522440" indent="-30312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2131920" indent="-30312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7417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7417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7417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0" y="8656560"/>
            <a:ext cx="12192120" cy="487440"/>
          </a:xfrm>
          <a:prstGeom prst="rect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3120" indent="-30312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9129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522440" indent="-30312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2131920" indent="-30312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7417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7417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7417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838080" y="8475480"/>
            <a:ext cx="2743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Times New Roman"/>
              </a:rPr>
              <a:t>1/1/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4038480" y="8475480"/>
            <a:ext cx="4114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Times New Roman"/>
              </a:rPr>
              <a:t>D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9448920" y="8656560"/>
            <a:ext cx="27432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8684A-4A6D-4ABF-918F-E015A2598682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60" y="487440"/>
            <a:ext cx="12184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255600"/>
                <a:tab algn="l" pos="512640"/>
                <a:tab algn="l" pos="770040"/>
                <a:tab algn="l" pos="1027080"/>
                <a:tab algn="l" pos="1284120"/>
                <a:tab algn="l" pos="1541520"/>
                <a:tab algn="l" pos="1798560"/>
                <a:tab algn="l" pos="2055960"/>
                <a:tab algn="l" pos="2313000"/>
                <a:tab algn="l" pos="2570040"/>
                <a:tab algn="l" pos="2827440"/>
                <a:tab algn="l" pos="3084480"/>
                <a:tab algn="l" pos="3341520"/>
                <a:tab algn="l" pos="3598920"/>
                <a:tab algn="l" pos="3855960"/>
                <a:tab algn="l" pos="4113360"/>
                <a:tab algn="l" pos="4370400"/>
                <a:tab algn="l" pos="4627440"/>
                <a:tab algn="l" pos="4884840"/>
                <a:tab algn="l" pos="514188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 Light"/>
              </a:rPr>
              <a:t>Motivation – Uncertain AT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560" y="1521000"/>
            <a:ext cx="1218420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3120" indent="-303120">
              <a:lnSpc>
                <a:spcPct val="90000"/>
              </a:lnSpc>
              <a:spcBef>
                <a:spcPts val="1338"/>
              </a:spcBef>
              <a:buClr>
                <a:srgbClr val="ff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ower Level design (dark blue) will be closed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or to Higher Level design (light blue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10648800" y="8640720"/>
            <a:ext cx="1543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55600"/>
                <a:tab algn="l" pos="512640"/>
                <a:tab algn="l" pos="770040"/>
                <a:tab algn="l" pos="1027080"/>
                <a:tab algn="l" pos="1284120"/>
                <a:tab algn="l" pos="1541520"/>
                <a:tab algn="l" pos="1798560"/>
                <a:tab algn="l" pos="2055960"/>
                <a:tab algn="l" pos="2313000"/>
                <a:tab algn="l" pos="2570040"/>
                <a:tab algn="l" pos="2827440"/>
                <a:tab algn="l" pos="3084480"/>
                <a:tab algn="l" pos="3341520"/>
                <a:tab algn="l" pos="3598920"/>
                <a:tab algn="l" pos="3855960"/>
                <a:tab algn="l" pos="4113360"/>
                <a:tab algn="l" pos="4370400"/>
                <a:tab algn="l" pos="4627440"/>
                <a:tab algn="l" pos="4884840"/>
                <a:tab algn="l" pos="51418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icrosoft YaHe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5046840"/>
            <a:ext cx="121921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timing and noise analysi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uses timing constrai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 hierarchical boundary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990720" y="2128680"/>
            <a:ext cx="9486720" cy="2267280"/>
            <a:chOff x="990720" y="2128680"/>
            <a:chExt cx="9486720" cy="2267280"/>
          </a:xfrm>
        </p:grpSpPr>
        <p:grpSp>
          <p:nvGrpSpPr>
            <p:cNvPr id="180" name="Group 11"/>
            <p:cNvGrpSpPr/>
            <p:nvPr/>
          </p:nvGrpSpPr>
          <p:grpSpPr>
            <a:xfrm>
              <a:off x="990720" y="2128680"/>
              <a:ext cx="9486720" cy="2267280"/>
              <a:chOff x="990720" y="2128680"/>
              <a:chExt cx="9486720" cy="2267280"/>
            </a:xfrm>
          </p:grpSpPr>
          <p:sp>
            <p:nvSpPr>
              <p:cNvPr id="181" name="Rectangle 52"/>
              <p:cNvSpPr/>
              <p:nvPr/>
            </p:nvSpPr>
            <p:spPr>
              <a:xfrm>
                <a:off x="8985960" y="2728440"/>
                <a:ext cx="1081080" cy="1447920"/>
              </a:xfrm>
              <a:prstGeom prst="rect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Isosceles Triangle 53"/>
              <p:cNvSpPr/>
              <p:nvPr/>
            </p:nvSpPr>
            <p:spPr>
              <a:xfrm rot="5400000">
                <a:off x="6665040" y="2648880"/>
                <a:ext cx="921240" cy="685800"/>
              </a:xfrm>
              <a:prstGeom prst="triangle">
                <a:avLst>
                  <a:gd name="adj" fmla="val 50000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Rectangle 54"/>
              <p:cNvSpPr/>
              <p:nvPr/>
            </p:nvSpPr>
            <p:spPr>
              <a:xfrm>
                <a:off x="5266440" y="2128680"/>
                <a:ext cx="5211000" cy="2267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Straight Connector 56"/>
              <p:cNvSpPr/>
              <p:nvPr/>
            </p:nvSpPr>
            <p:spPr>
              <a:xfrm>
                <a:off x="5266440" y="2991960"/>
                <a:ext cx="151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Straight Connector 57"/>
              <p:cNvSpPr/>
              <p:nvPr/>
            </p:nvSpPr>
            <p:spPr>
              <a:xfrm>
                <a:off x="7468920" y="3008160"/>
                <a:ext cx="151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TextBox 59"/>
              <p:cNvSpPr/>
              <p:nvPr/>
            </p:nvSpPr>
            <p:spPr>
              <a:xfrm>
                <a:off x="9272880" y="2725920"/>
                <a:ext cx="73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Latc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Straight Connector 56"/>
              <p:cNvSpPr/>
              <p:nvPr/>
            </p:nvSpPr>
            <p:spPr>
              <a:xfrm>
                <a:off x="4196160" y="3008160"/>
                <a:ext cx="106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Isosceles Triangle 53"/>
              <p:cNvSpPr/>
              <p:nvPr/>
            </p:nvSpPr>
            <p:spPr>
              <a:xfrm rot="5400000">
                <a:off x="3385080" y="2656800"/>
                <a:ext cx="921240" cy="685800"/>
              </a:xfrm>
              <a:prstGeom prst="triangle">
                <a:avLst>
                  <a:gd name="adj" fmla="val 50000"/>
                </a:avLst>
              </a:prstGeom>
              <a:solidFill>
                <a:srgbClr val="00b0f0">
                  <a:alpha val="3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Rectangle 52"/>
              <p:cNvSpPr/>
              <p:nvPr/>
            </p:nvSpPr>
            <p:spPr>
              <a:xfrm>
                <a:off x="990720" y="2629440"/>
                <a:ext cx="1081080" cy="1447920"/>
              </a:xfrm>
              <a:prstGeom prst="rect">
                <a:avLst/>
              </a:prstGeom>
              <a:solidFill>
                <a:srgbClr val="00b0f0">
                  <a:alpha val="3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Straight Connector 56"/>
              <p:cNvSpPr/>
              <p:nvPr/>
            </p:nvSpPr>
            <p:spPr>
              <a:xfrm>
                <a:off x="2081520" y="3008160"/>
                <a:ext cx="142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TextBox 59"/>
              <p:cNvSpPr/>
              <p:nvPr/>
            </p:nvSpPr>
            <p:spPr>
              <a:xfrm>
                <a:off x="1005480" y="2629440"/>
                <a:ext cx="73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Latc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2" name="TextBox 60"/>
            <p:cNvSpPr/>
            <p:nvPr/>
          </p:nvSpPr>
          <p:spPr>
            <a:xfrm>
              <a:off x="4795200" y="2657160"/>
              <a:ext cx="4640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00b0f0"/>
                  </a:solidFill>
                  <a:latin typeface="Calibri"/>
                </a:rPr>
                <a:t>AT</a:t>
              </a:r>
              <a:r>
                <a:rPr b="1" lang="en-US" sz="1600" spc="-1" strike="noStrike" baseline="-25000">
                  <a:solidFill>
                    <a:srgbClr val="00b0f0"/>
                  </a:solidFill>
                  <a:latin typeface="Calibri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Group 1"/>
          <p:cNvGrpSpPr/>
          <p:nvPr/>
        </p:nvGrpSpPr>
        <p:grpSpPr>
          <a:xfrm>
            <a:off x="2010960" y="5781600"/>
            <a:ext cx="7040880" cy="2263680"/>
            <a:chOff x="2010960" y="5781600"/>
            <a:chExt cx="7040880" cy="2263680"/>
          </a:xfrm>
        </p:grpSpPr>
        <p:grpSp>
          <p:nvGrpSpPr>
            <p:cNvPr id="194" name="Group 2"/>
            <p:cNvGrpSpPr/>
            <p:nvPr/>
          </p:nvGrpSpPr>
          <p:grpSpPr>
            <a:xfrm>
              <a:off x="3833280" y="5781600"/>
              <a:ext cx="5218560" cy="2263680"/>
              <a:chOff x="3833280" y="5781600"/>
              <a:chExt cx="5218560" cy="2263680"/>
            </a:xfrm>
          </p:grpSpPr>
          <p:sp>
            <p:nvSpPr>
              <p:cNvPr id="195" name="Rectangle 52"/>
              <p:cNvSpPr/>
              <p:nvPr/>
            </p:nvSpPr>
            <p:spPr>
              <a:xfrm>
                <a:off x="7573680" y="6380640"/>
                <a:ext cx="1081080" cy="1445400"/>
              </a:xfrm>
              <a:prstGeom prst="rect">
                <a:avLst/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Isosceles Triangle 53"/>
              <p:cNvSpPr/>
              <p:nvPr/>
            </p:nvSpPr>
            <p:spPr>
              <a:xfrm rot="5400000">
                <a:off x="5253120" y="6300360"/>
                <a:ext cx="919800" cy="685800"/>
              </a:xfrm>
              <a:prstGeom prst="triangle">
                <a:avLst>
                  <a:gd name="adj" fmla="val 50000"/>
                </a:avLst>
              </a:prstGeom>
              <a:solidFill>
                <a:srgbClr val="00b8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Rectangle 54"/>
              <p:cNvSpPr/>
              <p:nvPr/>
            </p:nvSpPr>
            <p:spPr>
              <a:xfrm>
                <a:off x="3833280" y="5781600"/>
                <a:ext cx="5218560" cy="2263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Straight Connector 56"/>
              <p:cNvSpPr/>
              <p:nvPr/>
            </p:nvSpPr>
            <p:spPr>
              <a:xfrm>
                <a:off x="3853440" y="6643440"/>
                <a:ext cx="151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Straight Connector 57"/>
              <p:cNvSpPr/>
              <p:nvPr/>
            </p:nvSpPr>
            <p:spPr>
              <a:xfrm>
                <a:off x="6056640" y="6659640"/>
                <a:ext cx="151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TextBox 59"/>
              <p:cNvSpPr/>
              <p:nvPr/>
            </p:nvSpPr>
            <p:spPr>
              <a:xfrm>
                <a:off x="7860960" y="6377760"/>
                <a:ext cx="73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Latc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TextBox 60"/>
              <p:cNvSpPr/>
              <p:nvPr/>
            </p:nvSpPr>
            <p:spPr>
              <a:xfrm>
                <a:off x="3910680" y="6261480"/>
                <a:ext cx="636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800" spc="-1" strike="noStrike">
                    <a:solidFill>
                      <a:srgbClr val="0070c0"/>
                    </a:solidFill>
                    <a:latin typeface="Calibri"/>
                  </a:rPr>
                  <a:t>AT</a:t>
                </a:r>
                <a:r>
                  <a:rPr b="1" lang="en-US" sz="1800" spc="-1" strike="noStrike" baseline="-25000">
                    <a:solidFill>
                      <a:srgbClr val="0070c0"/>
                    </a:solidFill>
                    <a:latin typeface="Calibri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02" name="Straight Arrow Connector 106"/>
            <p:cNvCxnSpPr/>
            <p:nvPr/>
          </p:nvCxnSpPr>
          <p:spPr>
            <a:xfrm>
              <a:off x="2476440" y="6662520"/>
              <a:ext cx="1028880" cy="1080"/>
            </a:xfrm>
            <a:prstGeom prst="straightConnector1">
              <a:avLst/>
            </a:prstGeom>
            <a:ln w="57240">
              <a:solidFill>
                <a:srgbClr val="2e75b6"/>
              </a:solidFill>
              <a:miter/>
              <a:tailEnd len="med" type="triangle" w="med"/>
            </a:ln>
          </p:spPr>
        </p:cxnSp>
        <p:sp>
          <p:nvSpPr>
            <p:cNvPr id="203" name="TextBox 58"/>
            <p:cNvSpPr/>
            <p:nvPr/>
          </p:nvSpPr>
          <p:spPr>
            <a:xfrm>
              <a:off x="2010960" y="6116040"/>
              <a:ext cx="1681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2e75b6"/>
                  </a:solidFill>
                  <a:latin typeface="Calibri"/>
                </a:rPr>
                <a:t>TIMIN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2e75b6"/>
                  </a:solidFill>
                  <a:latin typeface="Calibri"/>
                </a:rPr>
                <a:t>CONSTRAI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9"/>
          <p:cNvGrpSpPr/>
          <p:nvPr/>
        </p:nvGrpSpPr>
        <p:grpSpPr>
          <a:xfrm>
            <a:off x="1371600" y="609480"/>
            <a:ext cx="9144000" cy="5486400"/>
            <a:chOff x="1371600" y="609480"/>
            <a:chExt cx="9144000" cy="5486400"/>
          </a:xfrm>
        </p:grpSpPr>
        <p:pic>
          <p:nvPicPr>
            <p:cNvPr id="427" name="Picture 10" descr=""/>
            <p:cNvPicPr/>
            <p:nvPr/>
          </p:nvPicPr>
          <p:blipFill>
            <a:blip r:embed="rId1"/>
            <a:stretch/>
          </p:blipFill>
          <p:spPr>
            <a:xfrm>
              <a:off x="1371600" y="609480"/>
              <a:ext cx="9144000" cy="5486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28" name="TextBox 11"/>
            <p:cNvSpPr/>
            <p:nvPr/>
          </p:nvSpPr>
          <p:spPr>
            <a:xfrm>
              <a:off x="2004480" y="1746720"/>
              <a:ext cx="167076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Calibri"/>
                </a:rPr>
                <a:t>Windows from AT 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TextBox 12"/>
            <p:cNvSpPr/>
            <p:nvPr/>
          </p:nvSpPr>
          <p:spPr>
            <a:xfrm>
              <a:off x="3352680" y="3896640"/>
              <a:ext cx="129528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c55a11"/>
                  </a:solidFill>
                  <a:latin typeface="Calibri"/>
                </a:rPr>
                <a:t>RAT window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TextBox 13"/>
            <p:cNvSpPr/>
            <p:nvPr/>
          </p:nvSpPr>
          <p:spPr>
            <a:xfrm>
              <a:off x="5481720" y="2931480"/>
              <a:ext cx="137592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Calibri"/>
                </a:rPr>
                <a:t>No window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31" name="Straight Arrow Connector 14"/>
            <p:cNvCxnSpPr/>
            <p:nvPr/>
          </p:nvCxnSpPr>
          <p:spPr>
            <a:xfrm>
              <a:off x="3269880" y="2357640"/>
              <a:ext cx="327600" cy="277560"/>
            </a:xfrm>
            <a:prstGeom prst="straightConnector1">
              <a:avLst/>
            </a:prstGeom>
            <a:ln w="6480">
              <a:solidFill>
                <a:srgbClr val="4472c4"/>
              </a:solidFill>
              <a:miter/>
              <a:tailEnd len="med" type="triangle" w="med"/>
            </a:ln>
          </p:spPr>
        </p:cxnSp>
        <p:cxnSp>
          <p:nvCxnSpPr>
            <p:cNvPr id="432" name="Straight Arrow Connector 15"/>
            <p:cNvCxnSpPr/>
            <p:nvPr/>
          </p:nvCxnSpPr>
          <p:spPr>
            <a:xfrm flipH="1" flipV="1">
              <a:off x="5335920" y="2467080"/>
              <a:ext cx="645840" cy="464040"/>
            </a:xfrm>
            <a:prstGeom prst="straightConnector1">
              <a:avLst/>
            </a:prstGeom>
            <a:ln w="6480">
              <a:solidFill>
                <a:srgbClr val="7f7f7f"/>
              </a:solidFill>
              <a:miter/>
              <a:tailEnd len="med" type="triangle" w="med"/>
            </a:ln>
          </p:spPr>
        </p:cxnSp>
        <p:cxnSp>
          <p:nvCxnSpPr>
            <p:cNvPr id="433" name="Straight Arrow Connector 16"/>
            <p:cNvCxnSpPr/>
            <p:nvPr/>
          </p:nvCxnSpPr>
          <p:spPr>
            <a:xfrm flipH="1" flipV="1">
              <a:off x="3269160" y="3030480"/>
              <a:ext cx="652680" cy="866160"/>
            </a:xfrm>
            <a:prstGeom prst="straightConnector1">
              <a:avLst/>
            </a:prstGeom>
            <a:ln w="6480">
              <a:solidFill>
                <a:srgbClr val="c55a11"/>
              </a:solidFill>
              <a:miter/>
              <a:tailEnd len="med" type="triangle" w="med"/>
            </a:ln>
          </p:spPr>
        </p:cxnSp>
        <p:sp>
          <p:nvSpPr>
            <p:cNvPr id="434" name="TextBox 17"/>
            <p:cNvSpPr/>
            <p:nvPr/>
          </p:nvSpPr>
          <p:spPr>
            <a:xfrm>
              <a:off x="4788000" y="700560"/>
              <a:ext cx="23371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Slacks for all PI Path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5" name="Rectangle 2"/>
          <p:cNvSpPr/>
          <p:nvPr/>
        </p:nvSpPr>
        <p:spPr>
          <a:xfrm>
            <a:off x="0" y="6781680"/>
            <a:ext cx="1219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85680" indent="-856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xample, if this path timing is fixed by speeding up this path, this analysis indicated it will pick up additional noise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85680" indent="-856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ixing paths to these slack values (orange curve)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rived by the new RAT windowing,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will prevent design exposure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ch as the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1"/>
          <p:cNvSpPr/>
          <p:nvPr/>
        </p:nvSpPr>
        <p:spPr>
          <a:xfrm>
            <a:off x="1649520" y="3925800"/>
            <a:ext cx="674640" cy="735120"/>
          </a:xfrm>
          <a:prstGeom prst="ellipse">
            <a:avLst/>
          </a:prstGeom>
          <a:solidFill>
            <a:srgbClr val="ff0000">
              <a:alpha val="9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7" name="Straight Arrow Connector 3"/>
          <p:cNvCxnSpPr/>
          <p:nvPr/>
        </p:nvCxnSpPr>
        <p:spPr>
          <a:xfrm flipH="1" flipV="1">
            <a:off x="2189880" y="4623840"/>
            <a:ext cx="847080" cy="200556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38" name="Slide Number Placeholder 4"/>
          <p:cNvSpPr/>
          <p:nvPr/>
        </p:nvSpPr>
        <p:spPr>
          <a:xfrm>
            <a:off x="8610480" y="8475840"/>
            <a:ext cx="2743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55600"/>
                <a:tab algn="l" pos="512640"/>
                <a:tab algn="l" pos="770040"/>
                <a:tab algn="l" pos="1027080"/>
                <a:tab algn="l" pos="1284120"/>
                <a:tab algn="l" pos="1541520"/>
                <a:tab algn="l" pos="1798560"/>
                <a:tab algn="l" pos="2055960"/>
                <a:tab algn="l" pos="2313000"/>
                <a:tab algn="l" pos="2570040"/>
                <a:tab algn="l" pos="2827440"/>
                <a:tab algn="l" pos="3084480"/>
                <a:tab algn="l" pos="3341520"/>
                <a:tab algn="l" pos="3598920"/>
                <a:tab algn="l" pos="3855960"/>
                <a:tab algn="l" pos="4113360"/>
                <a:tab algn="l" pos="4370400"/>
                <a:tab algn="l" pos="4627440"/>
                <a:tab algn="l" pos="4884840"/>
                <a:tab algn="l" pos="51418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icrosoft YaHe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57"/>
          <p:cNvGrpSpPr/>
          <p:nvPr/>
        </p:nvGrpSpPr>
        <p:grpSpPr>
          <a:xfrm>
            <a:off x="1487520" y="1905120"/>
            <a:ext cx="9144000" cy="5486400"/>
            <a:chOff x="1487520" y="1905120"/>
            <a:chExt cx="9144000" cy="5486400"/>
          </a:xfrm>
        </p:grpSpPr>
        <p:pic>
          <p:nvPicPr>
            <p:cNvPr id="440" name="Picture 58" descr=""/>
            <p:cNvPicPr/>
            <p:nvPr/>
          </p:nvPicPr>
          <p:blipFill>
            <a:blip r:embed="rId1"/>
            <a:stretch/>
          </p:blipFill>
          <p:spPr>
            <a:xfrm>
              <a:off x="1487520" y="1905120"/>
              <a:ext cx="9144000" cy="5486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1" name="TextBox 59"/>
            <p:cNvSpPr/>
            <p:nvPr/>
          </p:nvSpPr>
          <p:spPr>
            <a:xfrm>
              <a:off x="2266560" y="3248280"/>
              <a:ext cx="181296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Calibri"/>
                </a:rPr>
                <a:t>Windows from AT 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TextBox 60"/>
            <p:cNvSpPr/>
            <p:nvPr/>
          </p:nvSpPr>
          <p:spPr>
            <a:xfrm>
              <a:off x="3553200" y="5326920"/>
              <a:ext cx="132336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c55a11"/>
                  </a:solidFill>
                  <a:latin typeface="Calibri"/>
                </a:rPr>
                <a:t>RAT window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TextBox 61"/>
            <p:cNvSpPr/>
            <p:nvPr/>
          </p:nvSpPr>
          <p:spPr>
            <a:xfrm>
              <a:off x="5366520" y="4179600"/>
              <a:ext cx="14130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Calibri"/>
                </a:rPr>
                <a:t>No window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44" name="Straight Arrow Connector 62"/>
            <p:cNvCxnSpPr>
              <a:stCxn id="441" idx="2"/>
            </p:cNvCxnSpPr>
            <p:nvPr/>
          </p:nvCxnSpPr>
          <p:spPr>
            <a:xfrm>
              <a:off x="3172680" y="3852720"/>
              <a:ext cx="217800" cy="36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5" name="Straight Arrow Connector 63"/>
            <p:cNvCxnSpPr/>
            <p:nvPr/>
          </p:nvCxnSpPr>
          <p:spPr>
            <a:xfrm flipH="1" flipV="1">
              <a:off x="5144400" y="3761640"/>
              <a:ext cx="570960" cy="417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6" name="Straight Arrow Connector 64"/>
            <p:cNvCxnSpPr/>
            <p:nvPr/>
          </p:nvCxnSpPr>
          <p:spPr>
            <a:xfrm flipH="1" flipV="1">
              <a:off x="3390120" y="4418640"/>
              <a:ext cx="689760" cy="908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7" name="TextBox 65"/>
            <p:cNvSpPr/>
            <p:nvPr/>
          </p:nvSpPr>
          <p:spPr>
            <a:xfrm>
              <a:off x="4116600" y="1963440"/>
              <a:ext cx="38962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orst Slacks at PI Feed Latch Inpu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8" name="Rectangle 2"/>
          <p:cNvSpPr/>
          <p:nvPr/>
        </p:nvSpPr>
        <p:spPr>
          <a:xfrm>
            <a:off x="0" y="1143000"/>
            <a:ext cx="121921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wing slacks at Latch inputs only (subset of previously plotted slacks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4"/>
          <p:cNvSpPr/>
          <p:nvPr/>
        </p:nvSpPr>
        <p:spPr>
          <a:xfrm>
            <a:off x="9448920" y="8656560"/>
            <a:ext cx="2743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55600"/>
                <a:tab algn="l" pos="512640"/>
                <a:tab algn="l" pos="770040"/>
                <a:tab algn="l" pos="1027080"/>
                <a:tab algn="l" pos="1284120"/>
                <a:tab algn="l" pos="1541520"/>
                <a:tab algn="l" pos="1798560"/>
                <a:tab algn="l" pos="2055960"/>
                <a:tab algn="l" pos="2313000"/>
                <a:tab algn="l" pos="2570040"/>
                <a:tab algn="l" pos="2827440"/>
                <a:tab algn="l" pos="3084480"/>
                <a:tab algn="l" pos="3341520"/>
                <a:tab algn="l" pos="3598920"/>
                <a:tab algn="l" pos="3855960"/>
                <a:tab algn="l" pos="4113360"/>
                <a:tab algn="l" pos="4370400"/>
                <a:tab algn="l" pos="4627440"/>
                <a:tab algn="l" pos="4884840"/>
                <a:tab algn="l" pos="51418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"/>
          <p:cNvSpPr/>
          <p:nvPr/>
        </p:nvSpPr>
        <p:spPr>
          <a:xfrm>
            <a:off x="2666880" y="609480"/>
            <a:ext cx="6858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255600"/>
                <a:tab algn="l" pos="512640"/>
                <a:tab algn="l" pos="770040"/>
                <a:tab algn="l" pos="1027080"/>
                <a:tab algn="l" pos="1284120"/>
                <a:tab algn="l" pos="1541520"/>
                <a:tab algn="l" pos="1798560"/>
                <a:tab algn="l" pos="2055960"/>
                <a:tab algn="l" pos="2313000"/>
                <a:tab algn="l" pos="2570040"/>
                <a:tab algn="l" pos="2827440"/>
                <a:tab algn="l" pos="3084480"/>
                <a:tab algn="l" pos="3341520"/>
                <a:tab algn="l" pos="3598920"/>
                <a:tab algn="l" pos="3855960"/>
                <a:tab algn="l" pos="4113360"/>
                <a:tab algn="l" pos="4370400"/>
                <a:tab algn="l" pos="4627440"/>
                <a:tab algn="l" pos="4884840"/>
                <a:tab algn="l" pos="514188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0" y="1327320"/>
            <a:ext cx="121921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wn is a new method for doing coupled noise windowing for paths with arrival times constrai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new metho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uses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quired Arrival Times to replace Arrival Time Constrai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do victim and aggressor window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moves the exposure to Higher Level design changes that may happen after the Lower Level design has clos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10620360" y="8656560"/>
            <a:ext cx="15429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55600"/>
                <a:tab algn="l" pos="512640"/>
                <a:tab algn="l" pos="770040"/>
                <a:tab algn="l" pos="1027080"/>
                <a:tab algn="l" pos="1284120"/>
                <a:tab algn="l" pos="1541520"/>
                <a:tab algn="l" pos="1798560"/>
                <a:tab algn="l" pos="2055960"/>
                <a:tab algn="l" pos="2313000"/>
                <a:tab algn="l" pos="2570040"/>
                <a:tab algn="l" pos="2827440"/>
                <a:tab algn="l" pos="3084480"/>
                <a:tab algn="l" pos="3341520"/>
                <a:tab algn="l" pos="3598920"/>
                <a:tab algn="l" pos="3855960"/>
                <a:tab algn="l" pos="4113360"/>
                <a:tab algn="l" pos="4370400"/>
                <a:tab algn="l" pos="4627440"/>
                <a:tab algn="l" pos="4884840"/>
                <a:tab algn="l" pos="51418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Microsoft YaHe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Box 3"/>
          <p:cNvSpPr/>
          <p:nvPr/>
        </p:nvSpPr>
        <p:spPr>
          <a:xfrm>
            <a:off x="0" y="838080"/>
            <a:ext cx="12192120" cy="49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Say</a:t>
            </a: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 NO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o Arrival Time Constraint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moving the exposure to Higher Level design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ierarchical Coupled Noise Analy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ith Windowing using Required Arrival Tim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son Morsey, Steven Washburn, Patrick Willi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A, IBM Systems, Poughkeepsie, 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9448920" y="8656560"/>
            <a:ext cx="2743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55600"/>
                <a:tab algn="l" pos="512640"/>
                <a:tab algn="l" pos="770040"/>
                <a:tab algn="l" pos="1027080"/>
                <a:tab algn="l" pos="1284120"/>
                <a:tab algn="l" pos="1541520"/>
                <a:tab algn="l" pos="1798560"/>
                <a:tab algn="l" pos="2055960"/>
                <a:tab algn="l" pos="2313000"/>
                <a:tab algn="l" pos="2570040"/>
                <a:tab algn="l" pos="2827440"/>
                <a:tab algn="l" pos="3084480"/>
                <a:tab algn="l" pos="3341520"/>
                <a:tab algn="l" pos="3598920"/>
                <a:tab algn="l" pos="3855960"/>
                <a:tab algn="l" pos="4113360"/>
                <a:tab algn="l" pos="4370400"/>
                <a:tab algn="l" pos="4627440"/>
                <a:tab algn="l" pos="4884840"/>
                <a:tab algn="l" pos="51418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1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0" y="4438800"/>
            <a:ext cx="12192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166680" indent="-1666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the Higher Level design is changed (buffer added), the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 noise solution from Lower Level design may no longer be vali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Group 74"/>
          <p:cNvGrpSpPr/>
          <p:nvPr/>
        </p:nvGrpSpPr>
        <p:grpSpPr>
          <a:xfrm>
            <a:off x="1127520" y="5415120"/>
            <a:ext cx="9540360" cy="2628720"/>
            <a:chOff x="1127520" y="5415120"/>
            <a:chExt cx="9540360" cy="2628720"/>
          </a:xfrm>
        </p:grpSpPr>
        <p:sp>
          <p:nvSpPr>
            <p:cNvPr id="207" name="Rectangle 52"/>
            <p:cNvSpPr/>
            <p:nvPr/>
          </p:nvSpPr>
          <p:spPr>
            <a:xfrm>
              <a:off x="1183320" y="6618960"/>
              <a:ext cx="1153080" cy="1424880"/>
            </a:xfrm>
            <a:prstGeom prst="rect">
              <a:avLst/>
            </a:prstGeom>
            <a:solidFill>
              <a:srgbClr val="00b0f0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52"/>
            <p:cNvSpPr/>
            <p:nvPr/>
          </p:nvSpPr>
          <p:spPr>
            <a:xfrm>
              <a:off x="9067680" y="5973840"/>
              <a:ext cx="1153080" cy="142488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Isosceles Triangle 53"/>
            <p:cNvSpPr/>
            <p:nvPr/>
          </p:nvSpPr>
          <p:spPr>
            <a:xfrm rot="5400000">
              <a:off x="6640560" y="5888520"/>
              <a:ext cx="906840" cy="731520"/>
            </a:xfrm>
            <a:prstGeom prst="triangle">
              <a:avLst>
                <a:gd name="adj" fmla="val 50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54"/>
            <p:cNvSpPr/>
            <p:nvPr/>
          </p:nvSpPr>
          <p:spPr>
            <a:xfrm>
              <a:off x="5110560" y="5415120"/>
              <a:ext cx="5557320" cy="22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Straight Connector 56"/>
            <p:cNvSpPr/>
            <p:nvPr/>
          </p:nvSpPr>
          <p:spPr>
            <a:xfrm>
              <a:off x="5110560" y="6262560"/>
              <a:ext cx="1617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Straight Connector 57"/>
            <p:cNvSpPr/>
            <p:nvPr/>
          </p:nvSpPr>
          <p:spPr>
            <a:xfrm>
              <a:off x="7459920" y="6278760"/>
              <a:ext cx="1617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59"/>
            <p:cNvSpPr/>
            <p:nvPr/>
          </p:nvSpPr>
          <p:spPr>
            <a:xfrm>
              <a:off x="9367200" y="600084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L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Straight Connector 56"/>
            <p:cNvSpPr/>
            <p:nvPr/>
          </p:nvSpPr>
          <p:spPr>
            <a:xfrm>
              <a:off x="4343400" y="6278760"/>
              <a:ext cx="7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Straight Connector 56"/>
            <p:cNvSpPr/>
            <p:nvPr/>
          </p:nvSpPr>
          <p:spPr>
            <a:xfrm>
              <a:off x="2329200" y="7566120"/>
              <a:ext cx="88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59"/>
            <p:cNvSpPr/>
            <p:nvPr/>
          </p:nvSpPr>
          <p:spPr>
            <a:xfrm>
              <a:off x="1127520" y="656748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L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Straight Connector 56"/>
            <p:cNvSpPr/>
            <p:nvPr/>
          </p:nvSpPr>
          <p:spPr>
            <a:xfrm>
              <a:off x="4020840" y="7542000"/>
              <a:ext cx="51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Straight Connector 56"/>
            <p:cNvSpPr/>
            <p:nvPr/>
          </p:nvSpPr>
          <p:spPr>
            <a:xfrm>
              <a:off x="2804040" y="6278760"/>
              <a:ext cx="76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Straight Connector 56"/>
            <p:cNvSpPr/>
            <p:nvPr/>
          </p:nvSpPr>
          <p:spPr>
            <a:xfrm>
              <a:off x="2804040" y="6850800"/>
              <a:ext cx="176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Straight Connector 56"/>
            <p:cNvSpPr/>
            <p:nvPr/>
          </p:nvSpPr>
          <p:spPr>
            <a:xfrm>
              <a:off x="4559040" y="6850800"/>
              <a:ext cx="0" cy="69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>
              <a:off x="2806560" y="6286680"/>
              <a:ext cx="0" cy="56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Isosceles Triangle 53"/>
            <p:cNvSpPr/>
            <p:nvPr/>
          </p:nvSpPr>
          <p:spPr>
            <a:xfrm rot="5400000">
              <a:off x="3524040" y="5912640"/>
              <a:ext cx="906840" cy="731520"/>
            </a:xfrm>
            <a:prstGeom prst="triangle">
              <a:avLst>
                <a:gd name="adj" fmla="val 50000"/>
              </a:avLst>
            </a:prstGeom>
            <a:solidFill>
              <a:srgbClr val="00b0f0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Isosceles Triangle 53"/>
            <p:cNvSpPr/>
            <p:nvPr/>
          </p:nvSpPr>
          <p:spPr>
            <a:xfrm rot="5400000">
              <a:off x="3175920" y="7173360"/>
              <a:ext cx="906840" cy="731520"/>
            </a:xfrm>
            <a:prstGeom prst="triangle">
              <a:avLst>
                <a:gd name="adj" fmla="val 50000"/>
              </a:avLst>
            </a:prstGeom>
            <a:solidFill>
              <a:srgbClr val="00b0f0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"/>
          <p:cNvSpPr/>
          <p:nvPr/>
        </p:nvSpPr>
        <p:spPr>
          <a:xfrm>
            <a:off x="-3240" y="506520"/>
            <a:ext cx="1219212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255600"/>
                <a:tab algn="l" pos="512640"/>
                <a:tab algn="l" pos="770040"/>
                <a:tab algn="l" pos="1027080"/>
                <a:tab algn="l" pos="1284120"/>
                <a:tab algn="l" pos="1541520"/>
                <a:tab algn="l" pos="1798560"/>
                <a:tab algn="l" pos="2055960"/>
                <a:tab algn="l" pos="2313000"/>
                <a:tab algn="l" pos="2570040"/>
                <a:tab algn="l" pos="2827440"/>
                <a:tab algn="l" pos="3084480"/>
                <a:tab algn="l" pos="3341520"/>
                <a:tab algn="l" pos="3598920"/>
                <a:tab algn="l" pos="3855960"/>
                <a:tab algn="l" pos="4113360"/>
                <a:tab algn="l" pos="4370400"/>
                <a:tab algn="l" pos="4627440"/>
                <a:tab algn="l" pos="4884840"/>
                <a:tab algn="l" pos="514188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Motivation –Coupled Noise Exposure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1251000"/>
            <a:ext cx="121921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99360" indent="-99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oupled Noise is sensitive to arrival times.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rival times are used to filter out aggressor nets that are not in sync with the victim (known as windowing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0" y="6737400"/>
            <a:ext cx="12188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97560" indent="-9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figure, no noise is computed at the latch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f the aggressor arrives too early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impact the victim signal. 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ower Level design is closed with no noise adjustment to tim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7" name="Straight Arrow Connector 6"/>
          <p:cNvCxnSpPr/>
          <p:nvPr/>
        </p:nvCxnSpPr>
        <p:spPr>
          <a:xfrm flipV="1">
            <a:off x="6832080" y="4629960"/>
            <a:ext cx="940680" cy="934200"/>
          </a:xfrm>
          <a:prstGeom prst="straightConnector1">
            <a:avLst/>
          </a:prstGeom>
          <a:ln w="540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8" name="Straight Arrow Connector 83"/>
          <p:cNvCxnSpPr/>
          <p:nvPr/>
        </p:nvCxnSpPr>
        <p:spPr>
          <a:xfrm flipV="1">
            <a:off x="6792840" y="5562360"/>
            <a:ext cx="29520" cy="1095840"/>
          </a:xfrm>
          <a:prstGeom prst="straightConnector1">
            <a:avLst/>
          </a:prstGeom>
          <a:ln w="54000">
            <a:solidFill>
              <a:srgbClr val="ff0000"/>
            </a:solidFill>
            <a:miter/>
          </a:ln>
        </p:spPr>
      </p:cxnSp>
      <p:sp>
        <p:nvSpPr>
          <p:cNvPr id="229" name="Slide Number Placeholder 4"/>
          <p:cNvSpPr/>
          <p:nvPr/>
        </p:nvSpPr>
        <p:spPr>
          <a:xfrm>
            <a:off x="10648800" y="8640720"/>
            <a:ext cx="1543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55600"/>
                <a:tab algn="l" pos="512640"/>
                <a:tab algn="l" pos="770040"/>
                <a:tab algn="l" pos="1027080"/>
                <a:tab algn="l" pos="1284120"/>
                <a:tab algn="l" pos="1541520"/>
                <a:tab algn="l" pos="1798560"/>
                <a:tab algn="l" pos="2055960"/>
                <a:tab algn="l" pos="2313000"/>
                <a:tab algn="l" pos="2570040"/>
                <a:tab algn="l" pos="2827440"/>
                <a:tab algn="l" pos="3084480"/>
                <a:tab algn="l" pos="3341520"/>
                <a:tab algn="l" pos="3598920"/>
                <a:tab algn="l" pos="3855960"/>
                <a:tab algn="l" pos="4113360"/>
                <a:tab algn="l" pos="4370400"/>
                <a:tab algn="l" pos="4627440"/>
                <a:tab algn="l" pos="4884840"/>
                <a:tab algn="l" pos="51418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icrosoft YaHe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Group 23"/>
          <p:cNvGrpSpPr/>
          <p:nvPr/>
        </p:nvGrpSpPr>
        <p:grpSpPr>
          <a:xfrm>
            <a:off x="1459440" y="2362320"/>
            <a:ext cx="9130680" cy="3801960"/>
            <a:chOff x="1459440" y="2362320"/>
            <a:chExt cx="9130680" cy="3801960"/>
          </a:xfrm>
        </p:grpSpPr>
        <p:grpSp>
          <p:nvGrpSpPr>
            <p:cNvPr id="231" name="Group 11"/>
            <p:cNvGrpSpPr/>
            <p:nvPr/>
          </p:nvGrpSpPr>
          <p:grpSpPr>
            <a:xfrm>
              <a:off x="1465920" y="2362320"/>
              <a:ext cx="9124200" cy="2695680"/>
              <a:chOff x="1465920" y="2362320"/>
              <a:chExt cx="9124200" cy="2695680"/>
            </a:xfrm>
          </p:grpSpPr>
          <p:sp>
            <p:nvSpPr>
              <p:cNvPr id="232" name="Rectangle 52"/>
              <p:cNvSpPr/>
              <p:nvPr/>
            </p:nvSpPr>
            <p:spPr>
              <a:xfrm>
                <a:off x="9321120" y="2913840"/>
                <a:ext cx="1062000" cy="1331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Isosceles Triangle 53"/>
              <p:cNvSpPr/>
              <p:nvPr/>
            </p:nvSpPr>
            <p:spPr>
              <a:xfrm rot="5400000">
                <a:off x="7069680" y="2819160"/>
                <a:ext cx="847080" cy="67356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Rectangle 54"/>
              <p:cNvSpPr/>
              <p:nvPr/>
            </p:nvSpPr>
            <p:spPr>
              <a:xfrm>
                <a:off x="5666760" y="2362320"/>
                <a:ext cx="4923360" cy="2695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Straight Connector 56"/>
              <p:cNvSpPr/>
              <p:nvPr/>
            </p:nvSpPr>
            <p:spPr>
              <a:xfrm>
                <a:off x="5666760" y="3156120"/>
                <a:ext cx="149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Straight Connector 57"/>
              <p:cNvSpPr/>
              <p:nvPr/>
            </p:nvSpPr>
            <p:spPr>
              <a:xfrm>
                <a:off x="7830720" y="3171240"/>
                <a:ext cx="149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TextBox 59"/>
              <p:cNvSpPr/>
              <p:nvPr/>
            </p:nvSpPr>
            <p:spPr>
              <a:xfrm>
                <a:off x="9641160" y="2911320"/>
                <a:ext cx="73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Latc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Straight Connector 56"/>
              <p:cNvSpPr/>
              <p:nvPr/>
            </p:nvSpPr>
            <p:spPr>
              <a:xfrm>
                <a:off x="4615200" y="3171240"/>
                <a:ext cx="105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Isosceles Triangle 53"/>
              <p:cNvSpPr/>
              <p:nvPr/>
            </p:nvSpPr>
            <p:spPr>
              <a:xfrm rot="5400000">
                <a:off x="3847320" y="2826360"/>
                <a:ext cx="847080" cy="673560"/>
              </a:xfrm>
              <a:prstGeom prst="triangle">
                <a:avLst>
                  <a:gd name="adj" fmla="val 50000"/>
                </a:avLst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Rectangle 52"/>
              <p:cNvSpPr/>
              <p:nvPr/>
            </p:nvSpPr>
            <p:spPr>
              <a:xfrm>
                <a:off x="1465920" y="2823120"/>
                <a:ext cx="1062000" cy="1331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Straight Connector 56"/>
              <p:cNvSpPr/>
              <p:nvPr/>
            </p:nvSpPr>
            <p:spPr>
              <a:xfrm>
                <a:off x="2537640" y="3171240"/>
                <a:ext cx="1396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TextBox 59"/>
              <p:cNvSpPr/>
              <p:nvPr/>
            </p:nvSpPr>
            <p:spPr>
              <a:xfrm>
                <a:off x="1518120" y="2823120"/>
                <a:ext cx="73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Latc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3" name="Straight Connector 56"/>
            <p:cNvSpPr/>
            <p:nvPr/>
          </p:nvSpPr>
          <p:spPr>
            <a:xfrm>
              <a:off x="5106600" y="4431240"/>
              <a:ext cx="581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Isosceles Triangle 53"/>
            <p:cNvSpPr/>
            <p:nvPr/>
          </p:nvSpPr>
          <p:spPr>
            <a:xfrm rot="5400000">
              <a:off x="4313160" y="4096800"/>
              <a:ext cx="847080" cy="673560"/>
            </a:xfrm>
            <a:prstGeom prst="triangle">
              <a:avLst>
                <a:gd name="adj" fmla="val 50000"/>
              </a:avLst>
            </a:prstGeom>
            <a:solidFill>
              <a:srgbClr val="00b0f0">
                <a:alpha val="50000"/>
              </a:srgbClr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Rectangle 52"/>
            <p:cNvSpPr/>
            <p:nvPr/>
          </p:nvSpPr>
          <p:spPr>
            <a:xfrm>
              <a:off x="1459440" y="4658400"/>
              <a:ext cx="1062000" cy="1331280"/>
            </a:xfrm>
            <a:prstGeom prst="rect">
              <a:avLst/>
            </a:prstGeom>
            <a:solidFill>
              <a:srgbClr val="00b0f0">
                <a:alpha val="50000"/>
              </a:srgbClr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Straight Connector 56"/>
            <p:cNvSpPr/>
            <p:nvPr/>
          </p:nvSpPr>
          <p:spPr>
            <a:xfrm>
              <a:off x="2531160" y="5761080"/>
              <a:ext cx="891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59"/>
            <p:cNvSpPr/>
            <p:nvPr/>
          </p:nvSpPr>
          <p:spPr>
            <a:xfrm>
              <a:off x="1486800" y="470520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L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Isosceles Triangle 53"/>
            <p:cNvSpPr/>
            <p:nvPr/>
          </p:nvSpPr>
          <p:spPr>
            <a:xfrm rot="5400000">
              <a:off x="3379680" y="5403960"/>
              <a:ext cx="847080" cy="673560"/>
            </a:xfrm>
            <a:prstGeom prst="triangle">
              <a:avLst>
                <a:gd name="adj" fmla="val 50000"/>
              </a:avLst>
            </a:prstGeom>
            <a:solidFill>
              <a:srgbClr val="00b0f0">
                <a:alpha val="50000"/>
              </a:srgbClr>
            </a:soli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Straight Connector 56"/>
            <p:cNvSpPr/>
            <p:nvPr/>
          </p:nvSpPr>
          <p:spPr>
            <a:xfrm>
              <a:off x="3466800" y="4437720"/>
              <a:ext cx="0" cy="69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Straight Connector 56"/>
            <p:cNvSpPr/>
            <p:nvPr/>
          </p:nvSpPr>
          <p:spPr>
            <a:xfrm>
              <a:off x="4169880" y="5761080"/>
              <a:ext cx="891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Straight Connector 56"/>
            <p:cNvSpPr/>
            <p:nvPr/>
          </p:nvSpPr>
          <p:spPr>
            <a:xfrm>
              <a:off x="3493800" y="4433760"/>
              <a:ext cx="891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Straight Connector 56"/>
            <p:cNvSpPr/>
            <p:nvPr/>
          </p:nvSpPr>
          <p:spPr>
            <a:xfrm>
              <a:off x="3466800" y="5133600"/>
              <a:ext cx="1580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Straight Connector 56"/>
            <p:cNvSpPr/>
            <p:nvPr/>
          </p:nvSpPr>
          <p:spPr>
            <a:xfrm>
              <a:off x="5061240" y="5133600"/>
              <a:ext cx="0" cy="61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52"/>
            <p:cNvSpPr/>
            <p:nvPr/>
          </p:nvSpPr>
          <p:spPr>
            <a:xfrm>
              <a:off x="7927920" y="3624480"/>
              <a:ext cx="1062000" cy="13312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Straight Connector 57"/>
            <p:cNvSpPr/>
            <p:nvPr/>
          </p:nvSpPr>
          <p:spPr>
            <a:xfrm>
              <a:off x="5688360" y="4431240"/>
              <a:ext cx="222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Straight Connector 89"/>
            <p:cNvSpPr/>
            <p:nvPr/>
          </p:nvSpPr>
          <p:spPr>
            <a:xfrm>
              <a:off x="6386400" y="3154320"/>
              <a:ext cx="25560" cy="673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Straight Connector 90"/>
            <p:cNvSpPr/>
            <p:nvPr/>
          </p:nvSpPr>
          <p:spPr>
            <a:xfrm>
              <a:off x="6402600" y="3961800"/>
              <a:ext cx="0" cy="46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Straight Connector 91"/>
            <p:cNvSpPr/>
            <p:nvPr/>
          </p:nvSpPr>
          <p:spPr>
            <a:xfrm>
              <a:off x="6177960" y="3956760"/>
              <a:ext cx="434880" cy="5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Straight Connector 92"/>
            <p:cNvSpPr/>
            <p:nvPr/>
          </p:nvSpPr>
          <p:spPr>
            <a:xfrm>
              <a:off x="6185160" y="3828240"/>
              <a:ext cx="434880" cy="7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Box 59"/>
            <p:cNvSpPr/>
            <p:nvPr/>
          </p:nvSpPr>
          <p:spPr>
            <a:xfrm>
              <a:off x="8238960" y="367344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L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7567560"/>
            <a:ext cx="1219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97560" indent="-975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Now Higher Level design is changed.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er Level was closed with outdated timing constraints. 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Noise is now missing in Lower Level analysis, putting hardware at risk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9448920" y="8656560"/>
            <a:ext cx="2743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55600"/>
                <a:tab algn="l" pos="512640"/>
                <a:tab algn="l" pos="770040"/>
                <a:tab algn="l" pos="1027080"/>
                <a:tab algn="l" pos="1284120"/>
                <a:tab algn="l" pos="1541520"/>
                <a:tab algn="l" pos="1798560"/>
                <a:tab algn="l" pos="2055960"/>
                <a:tab algn="l" pos="2313000"/>
                <a:tab algn="l" pos="2570040"/>
                <a:tab algn="l" pos="2827440"/>
                <a:tab algn="l" pos="3084480"/>
                <a:tab algn="l" pos="3341520"/>
                <a:tab algn="l" pos="3598920"/>
                <a:tab algn="l" pos="3855960"/>
                <a:tab algn="l" pos="4113360"/>
                <a:tab algn="l" pos="4370400"/>
                <a:tab algn="l" pos="4627440"/>
                <a:tab algn="l" pos="4884840"/>
                <a:tab algn="l" pos="51418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48"/>
          <p:cNvGrpSpPr/>
          <p:nvPr/>
        </p:nvGrpSpPr>
        <p:grpSpPr>
          <a:xfrm>
            <a:off x="1170360" y="2743200"/>
            <a:ext cx="9897840" cy="4386240"/>
            <a:chOff x="1170360" y="2743200"/>
            <a:chExt cx="9897840" cy="4386240"/>
          </a:xfrm>
        </p:grpSpPr>
        <p:sp>
          <p:nvSpPr>
            <p:cNvPr id="264" name="Straight Connector 56"/>
            <p:cNvSpPr/>
            <p:nvPr/>
          </p:nvSpPr>
          <p:spPr>
            <a:xfrm>
              <a:off x="5186160" y="3653640"/>
              <a:ext cx="5842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Isosceles Triangle 53"/>
            <p:cNvSpPr/>
            <p:nvPr/>
          </p:nvSpPr>
          <p:spPr>
            <a:xfrm rot="5400000">
              <a:off x="4332960" y="3289680"/>
              <a:ext cx="977400" cy="727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Rectangle 52"/>
            <p:cNvSpPr/>
            <p:nvPr/>
          </p:nvSpPr>
          <p:spPr>
            <a:xfrm>
              <a:off x="1198800" y="3198960"/>
              <a:ext cx="1147680" cy="15361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Straight Connector 56"/>
            <p:cNvSpPr/>
            <p:nvPr/>
          </p:nvSpPr>
          <p:spPr>
            <a:xfrm flipV="1">
              <a:off x="2322000" y="3675960"/>
              <a:ext cx="67932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Box 59"/>
            <p:cNvSpPr/>
            <p:nvPr/>
          </p:nvSpPr>
          <p:spPr>
            <a:xfrm>
              <a:off x="1170360" y="319068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L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Isosceles Triangle 53"/>
            <p:cNvSpPr/>
            <p:nvPr/>
          </p:nvSpPr>
          <p:spPr>
            <a:xfrm rot="5400000">
              <a:off x="2892600" y="3312000"/>
              <a:ext cx="977400" cy="727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Straight Connector 56"/>
            <p:cNvSpPr/>
            <p:nvPr/>
          </p:nvSpPr>
          <p:spPr>
            <a:xfrm flipV="1">
              <a:off x="3745800" y="3653640"/>
              <a:ext cx="71208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oup 123"/>
            <p:cNvGrpSpPr/>
            <p:nvPr/>
          </p:nvGrpSpPr>
          <p:grpSpPr>
            <a:xfrm>
              <a:off x="1199880" y="2743200"/>
              <a:ext cx="9868320" cy="4386240"/>
              <a:chOff x="1199880" y="2743200"/>
              <a:chExt cx="9868320" cy="4386240"/>
            </a:xfrm>
          </p:grpSpPr>
          <p:grpSp>
            <p:nvGrpSpPr>
              <p:cNvPr id="272" name="Group 124"/>
              <p:cNvGrpSpPr/>
              <p:nvPr/>
            </p:nvGrpSpPr>
            <p:grpSpPr>
              <a:xfrm>
                <a:off x="5747040" y="2743200"/>
                <a:ext cx="5321160" cy="3110040"/>
                <a:chOff x="5747040" y="2743200"/>
                <a:chExt cx="5321160" cy="3110040"/>
              </a:xfrm>
            </p:grpSpPr>
            <p:sp>
              <p:nvSpPr>
                <p:cNvPr id="273" name="Rectangle 52"/>
                <p:cNvSpPr/>
                <p:nvPr/>
              </p:nvSpPr>
              <p:spPr>
                <a:xfrm>
                  <a:off x="9696600" y="3379680"/>
                  <a:ext cx="1147680" cy="1536120"/>
                </a:xfrm>
                <a:prstGeom prst="rect">
                  <a:avLst/>
                </a:prstGeom>
                <a:solidFill>
                  <a:srgbClr val="ff000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4" name="Isosceles Triangle 53"/>
                <p:cNvSpPr/>
                <p:nvPr/>
              </p:nvSpPr>
              <p:spPr>
                <a:xfrm rot="5400000">
                  <a:off x="7232760" y="3294720"/>
                  <a:ext cx="977400" cy="727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" name="Rectangle 54"/>
                <p:cNvSpPr/>
                <p:nvPr/>
              </p:nvSpPr>
              <p:spPr>
                <a:xfrm>
                  <a:off x="5747040" y="2743200"/>
                  <a:ext cx="5321160" cy="3110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lg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" name="Straight Connector 56"/>
                <p:cNvSpPr/>
                <p:nvPr/>
              </p:nvSpPr>
              <p:spPr>
                <a:xfrm>
                  <a:off x="5747040" y="3659040"/>
                  <a:ext cx="161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7" name="Straight Connector 57"/>
                <p:cNvSpPr/>
                <p:nvPr/>
              </p:nvSpPr>
              <p:spPr>
                <a:xfrm>
                  <a:off x="8085960" y="3676320"/>
                  <a:ext cx="161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8" name="TextBox 59"/>
                <p:cNvSpPr/>
                <p:nvPr/>
              </p:nvSpPr>
              <p:spPr>
                <a:xfrm>
                  <a:off x="10046520" y="3376800"/>
                  <a:ext cx="736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alibri"/>
                    </a:rPr>
                    <a:t>Latch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9" name="Straight Connector 56"/>
              <p:cNvSpPr/>
              <p:nvPr/>
            </p:nvSpPr>
            <p:spPr>
              <a:xfrm>
                <a:off x="5141880" y="5130000"/>
                <a:ext cx="62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Isosceles Triangle 53"/>
              <p:cNvSpPr/>
              <p:nvPr/>
            </p:nvSpPr>
            <p:spPr>
              <a:xfrm rot="5400000">
                <a:off x="4253400" y="4768920"/>
                <a:ext cx="977400" cy="727920"/>
              </a:xfrm>
              <a:prstGeom prst="triangle">
                <a:avLst>
                  <a:gd name="adj" fmla="val 50000"/>
                </a:avLst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Rectangle 52"/>
              <p:cNvSpPr/>
              <p:nvPr/>
            </p:nvSpPr>
            <p:spPr>
              <a:xfrm>
                <a:off x="1199880" y="5476320"/>
                <a:ext cx="1147680" cy="1536120"/>
              </a:xfrm>
              <a:prstGeom prst="rect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Straight Connector 56"/>
              <p:cNvSpPr/>
              <p:nvPr/>
            </p:nvSpPr>
            <p:spPr>
              <a:xfrm>
                <a:off x="2358360" y="6664320"/>
                <a:ext cx="96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TextBox 59"/>
              <p:cNvSpPr/>
              <p:nvPr/>
            </p:nvSpPr>
            <p:spPr>
              <a:xfrm>
                <a:off x="1234080" y="5530320"/>
                <a:ext cx="73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Latc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Isosceles Triangle 53"/>
              <p:cNvSpPr/>
              <p:nvPr/>
            </p:nvSpPr>
            <p:spPr>
              <a:xfrm rot="5400000">
                <a:off x="3244680" y="6276600"/>
                <a:ext cx="977400" cy="727920"/>
              </a:xfrm>
              <a:prstGeom prst="triangle">
                <a:avLst>
                  <a:gd name="adj" fmla="val 50000"/>
                </a:avLst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Straight Connector 56"/>
              <p:cNvSpPr/>
              <p:nvPr/>
            </p:nvSpPr>
            <p:spPr>
              <a:xfrm>
                <a:off x="3369600" y="5137560"/>
                <a:ext cx="0" cy="80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Straight Connector 56"/>
              <p:cNvSpPr/>
              <p:nvPr/>
            </p:nvSpPr>
            <p:spPr>
              <a:xfrm>
                <a:off x="4129200" y="6664320"/>
                <a:ext cx="96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Straight Connector 56"/>
              <p:cNvSpPr/>
              <p:nvPr/>
            </p:nvSpPr>
            <p:spPr>
              <a:xfrm>
                <a:off x="3398760" y="5132880"/>
                <a:ext cx="96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Straight Connector 56"/>
              <p:cNvSpPr/>
              <p:nvPr/>
            </p:nvSpPr>
            <p:spPr>
              <a:xfrm>
                <a:off x="3369600" y="5940360"/>
                <a:ext cx="170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Straight Connector 56"/>
              <p:cNvSpPr/>
              <p:nvPr/>
            </p:nvSpPr>
            <p:spPr>
              <a:xfrm>
                <a:off x="5092920" y="5940360"/>
                <a:ext cx="0" cy="71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Rectangle 52"/>
              <p:cNvSpPr/>
              <p:nvPr/>
            </p:nvSpPr>
            <p:spPr>
              <a:xfrm>
                <a:off x="8191080" y="4199040"/>
                <a:ext cx="1147680" cy="1536120"/>
              </a:xfrm>
              <a:prstGeom prst="rect">
                <a:avLst/>
              </a:prstGeom>
              <a:solidFill>
                <a:srgbClr val="00b0f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Straight Connector 57"/>
              <p:cNvSpPr/>
              <p:nvPr/>
            </p:nvSpPr>
            <p:spPr>
              <a:xfrm>
                <a:off x="5770440" y="5130000"/>
                <a:ext cx="240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Straight Connector 130"/>
              <p:cNvSpPr/>
              <p:nvPr/>
            </p:nvSpPr>
            <p:spPr>
              <a:xfrm>
                <a:off x="6524640" y="3656520"/>
                <a:ext cx="27720" cy="77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Straight Connector 131"/>
              <p:cNvSpPr/>
              <p:nvPr/>
            </p:nvSpPr>
            <p:spPr>
              <a:xfrm>
                <a:off x="6542280" y="4590000"/>
                <a:ext cx="0" cy="54072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Straight Connector 132"/>
              <p:cNvSpPr/>
              <p:nvPr/>
            </p:nvSpPr>
            <p:spPr>
              <a:xfrm>
                <a:off x="6299640" y="4581360"/>
                <a:ext cx="4701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Straight Connector 133"/>
              <p:cNvSpPr/>
              <p:nvPr/>
            </p:nvSpPr>
            <p:spPr>
              <a:xfrm>
                <a:off x="6307200" y="4435920"/>
                <a:ext cx="47016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TextBox 59"/>
              <p:cNvSpPr/>
              <p:nvPr/>
            </p:nvSpPr>
            <p:spPr>
              <a:xfrm>
                <a:off x="8531640" y="4255560"/>
                <a:ext cx="73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Latc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1179360"/>
            <a:ext cx="1196352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126720" indent="-1267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ggressor are filter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based on timing window (arrival of noise at victim pin), which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by default is based on arrival time constrai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at are translated from the aggressor driving gate to the victim pin. 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is is an exposu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"/>
          <p:cNvSpPr/>
          <p:nvPr/>
        </p:nvSpPr>
        <p:spPr>
          <a:xfrm>
            <a:off x="0" y="609480"/>
            <a:ext cx="1219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255600"/>
                <a:tab algn="l" pos="512640"/>
                <a:tab algn="l" pos="770040"/>
                <a:tab algn="l" pos="1027080"/>
                <a:tab algn="l" pos="1284120"/>
                <a:tab algn="l" pos="1541520"/>
                <a:tab algn="l" pos="1798560"/>
                <a:tab algn="l" pos="2055960"/>
                <a:tab algn="l" pos="2313000"/>
                <a:tab algn="l" pos="2570040"/>
                <a:tab algn="l" pos="2827440"/>
                <a:tab algn="l" pos="3084480"/>
                <a:tab algn="l" pos="3341520"/>
                <a:tab algn="l" pos="3598920"/>
                <a:tab algn="l" pos="3855960"/>
                <a:tab algn="l" pos="4113360"/>
                <a:tab algn="l" pos="4370400"/>
                <a:tab algn="l" pos="4627440"/>
                <a:tab algn="l" pos="4884840"/>
                <a:tab algn="l" pos="514188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Solution – RAT based Aggressor Window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10648800" y="8640720"/>
            <a:ext cx="1543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55600"/>
                <a:tab algn="l" pos="512640"/>
                <a:tab algn="l" pos="770040"/>
                <a:tab algn="l" pos="1027080"/>
                <a:tab algn="l" pos="1284120"/>
                <a:tab algn="l" pos="1541520"/>
                <a:tab algn="l" pos="1798560"/>
                <a:tab algn="l" pos="2055960"/>
                <a:tab algn="l" pos="2313000"/>
                <a:tab algn="l" pos="2570040"/>
                <a:tab algn="l" pos="2827440"/>
                <a:tab algn="l" pos="3084480"/>
                <a:tab algn="l" pos="3341520"/>
                <a:tab algn="l" pos="3598920"/>
                <a:tab algn="l" pos="3855960"/>
                <a:tab algn="l" pos="4113360"/>
                <a:tab algn="l" pos="4370400"/>
                <a:tab algn="l" pos="4627440"/>
                <a:tab algn="l" pos="4884840"/>
                <a:tab algn="l" pos="51418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icrosoft YaHe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Group 2"/>
          <p:cNvGrpSpPr/>
          <p:nvPr/>
        </p:nvGrpSpPr>
        <p:grpSpPr>
          <a:xfrm>
            <a:off x="1066680" y="2666880"/>
            <a:ext cx="8956800" cy="4457880"/>
            <a:chOff x="1066680" y="2666880"/>
            <a:chExt cx="8956800" cy="4457880"/>
          </a:xfrm>
        </p:grpSpPr>
        <p:grpSp>
          <p:nvGrpSpPr>
            <p:cNvPr id="301" name="Group 14"/>
            <p:cNvGrpSpPr/>
            <p:nvPr/>
          </p:nvGrpSpPr>
          <p:grpSpPr>
            <a:xfrm>
              <a:off x="1066680" y="2666880"/>
              <a:ext cx="8956800" cy="4457880"/>
              <a:chOff x="1066680" y="2666880"/>
              <a:chExt cx="8956800" cy="4457880"/>
            </a:xfrm>
          </p:grpSpPr>
          <p:sp>
            <p:nvSpPr>
              <p:cNvPr id="302" name="Isosceles Triangle 35"/>
              <p:cNvSpPr/>
              <p:nvPr/>
            </p:nvSpPr>
            <p:spPr>
              <a:xfrm rot="5400000">
                <a:off x="6487200" y="3518640"/>
                <a:ext cx="853920" cy="6976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Rectangle 6"/>
              <p:cNvSpPr/>
              <p:nvPr/>
            </p:nvSpPr>
            <p:spPr>
              <a:xfrm>
                <a:off x="2229840" y="2666880"/>
                <a:ext cx="7793640" cy="4457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TextBox 16"/>
              <p:cNvSpPr/>
              <p:nvPr/>
            </p:nvSpPr>
            <p:spPr>
              <a:xfrm>
                <a:off x="1081080" y="3425400"/>
                <a:ext cx="99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alibri"/>
                  </a:rPr>
                  <a:t>Aggressor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Rectangle 24"/>
              <p:cNvSpPr/>
              <p:nvPr/>
            </p:nvSpPr>
            <p:spPr>
              <a:xfrm>
                <a:off x="8816760" y="3516840"/>
                <a:ext cx="1100160" cy="1341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Isosceles Triangle 25"/>
              <p:cNvSpPr/>
              <p:nvPr/>
            </p:nvSpPr>
            <p:spPr>
              <a:xfrm rot="5400000">
                <a:off x="3695400" y="3503520"/>
                <a:ext cx="853920" cy="69768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Straight Connector 26"/>
              <p:cNvSpPr/>
              <p:nvPr/>
            </p:nvSpPr>
            <p:spPr>
              <a:xfrm>
                <a:off x="1066680" y="3852360"/>
                <a:ext cx="116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Straight Connector 27"/>
              <p:cNvSpPr/>
              <p:nvPr/>
            </p:nvSpPr>
            <p:spPr>
              <a:xfrm>
                <a:off x="2229840" y="3852360"/>
                <a:ext cx="154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Straight Connector 28"/>
              <p:cNvSpPr/>
              <p:nvPr/>
            </p:nvSpPr>
            <p:spPr>
              <a:xfrm>
                <a:off x="4471560" y="3867840"/>
                <a:ext cx="209376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TextBox 29"/>
              <p:cNvSpPr/>
              <p:nvPr/>
            </p:nvSpPr>
            <p:spPr>
              <a:xfrm>
                <a:off x="8808480" y="3463560"/>
                <a:ext cx="73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Latc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TextBox 30"/>
              <p:cNvSpPr/>
              <p:nvPr/>
            </p:nvSpPr>
            <p:spPr>
              <a:xfrm>
                <a:off x="4400280" y="3468960"/>
                <a:ext cx="575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alibri"/>
                  </a:rPr>
                  <a:t>AT</a:t>
                </a:r>
                <a:r>
                  <a:rPr b="0" lang="en-US" sz="1600" spc="-1" strike="noStrike" baseline="-25000">
                    <a:solidFill>
                      <a:srgbClr val="ff0000"/>
                    </a:solidFill>
                    <a:latin typeface="Calibri"/>
                  </a:rPr>
                  <a:t>Agg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Straight Connector 36"/>
              <p:cNvSpPr/>
              <p:nvPr/>
            </p:nvSpPr>
            <p:spPr>
              <a:xfrm>
                <a:off x="7263360" y="3882960"/>
                <a:ext cx="154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TextBox 39"/>
              <p:cNvSpPr/>
              <p:nvPr/>
            </p:nvSpPr>
            <p:spPr>
              <a:xfrm>
                <a:off x="8021880" y="3506400"/>
                <a:ext cx="685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alibri"/>
                  </a:rPr>
                  <a:t>RAT</a:t>
                </a:r>
                <a:r>
                  <a:rPr b="0" lang="en-US" sz="1600" spc="-1" strike="noStrike" baseline="-25000">
                    <a:solidFill>
                      <a:srgbClr val="ff0000"/>
                    </a:solidFill>
                    <a:latin typeface="Calibri"/>
                  </a:rPr>
                  <a:t>Agg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Straight Connector 3"/>
              <p:cNvSpPr/>
              <p:nvPr/>
            </p:nvSpPr>
            <p:spPr>
              <a:xfrm>
                <a:off x="5065560" y="3867840"/>
                <a:ext cx="0" cy="10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Straight Connector 43"/>
              <p:cNvSpPr/>
              <p:nvPr/>
            </p:nvSpPr>
            <p:spPr>
              <a:xfrm>
                <a:off x="5065560" y="5062320"/>
                <a:ext cx="0" cy="10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Straight Connector 41"/>
              <p:cNvSpPr/>
              <p:nvPr/>
            </p:nvSpPr>
            <p:spPr>
              <a:xfrm>
                <a:off x="4827960" y="4877280"/>
                <a:ext cx="46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Straight Connector 47"/>
              <p:cNvSpPr/>
              <p:nvPr/>
            </p:nvSpPr>
            <p:spPr>
              <a:xfrm>
                <a:off x="4827960" y="5062320"/>
                <a:ext cx="46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TextBox 49"/>
              <p:cNvSpPr/>
              <p:nvPr/>
            </p:nvSpPr>
            <p:spPr>
              <a:xfrm>
                <a:off x="3984840" y="5687280"/>
                <a:ext cx="702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0070c0"/>
                    </a:solidFill>
                    <a:latin typeface="Calibri"/>
                  </a:rPr>
                  <a:t>Victim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Isosceles Triangle 59"/>
              <p:cNvSpPr/>
              <p:nvPr/>
            </p:nvSpPr>
            <p:spPr>
              <a:xfrm rot="5400000">
                <a:off x="6332040" y="5669280"/>
                <a:ext cx="853920" cy="697680"/>
              </a:xfrm>
              <a:prstGeom prst="triangle">
                <a:avLst>
                  <a:gd name="adj" fmla="val 50000"/>
                </a:avLst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Rectangle 60"/>
              <p:cNvSpPr/>
              <p:nvPr/>
            </p:nvSpPr>
            <p:spPr>
              <a:xfrm>
                <a:off x="8659080" y="5667120"/>
                <a:ext cx="1102680" cy="1341720"/>
              </a:xfrm>
              <a:prstGeom prst="rect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TextBox 61"/>
              <p:cNvSpPr/>
              <p:nvPr/>
            </p:nvSpPr>
            <p:spPr>
              <a:xfrm>
                <a:off x="8653320" y="5613840"/>
                <a:ext cx="73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Latc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Straight Connector 62"/>
              <p:cNvSpPr/>
              <p:nvPr/>
            </p:nvSpPr>
            <p:spPr>
              <a:xfrm>
                <a:off x="7108200" y="6033240"/>
                <a:ext cx="154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TextBox 66"/>
              <p:cNvSpPr/>
              <p:nvPr/>
            </p:nvSpPr>
            <p:spPr>
              <a:xfrm>
                <a:off x="5851440" y="6051960"/>
                <a:ext cx="5418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0070c0"/>
                    </a:solidFill>
                    <a:latin typeface="Calibri"/>
                  </a:rPr>
                  <a:t>AT</a:t>
                </a:r>
                <a:r>
                  <a:rPr b="0" lang="en-US" sz="1600" spc="-1" strike="noStrike" baseline="-25000">
                    <a:solidFill>
                      <a:srgbClr val="0070c0"/>
                    </a:solidFill>
                    <a:latin typeface="Calibri"/>
                  </a:rPr>
                  <a:t>Vic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TextBox 71"/>
              <p:cNvSpPr/>
              <p:nvPr/>
            </p:nvSpPr>
            <p:spPr>
              <a:xfrm>
                <a:off x="4126320" y="4508280"/>
                <a:ext cx="90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Coupling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Rectangle 60"/>
              <p:cNvSpPr/>
              <p:nvPr/>
            </p:nvSpPr>
            <p:spPr>
              <a:xfrm>
                <a:off x="2867040" y="5667120"/>
                <a:ext cx="1102680" cy="1341720"/>
              </a:xfrm>
              <a:prstGeom prst="rect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TextBox 61"/>
              <p:cNvSpPr/>
              <p:nvPr/>
            </p:nvSpPr>
            <p:spPr>
              <a:xfrm>
                <a:off x="2861280" y="5613840"/>
                <a:ext cx="73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Latc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Straight Connector 63"/>
              <p:cNvSpPr/>
              <p:nvPr/>
            </p:nvSpPr>
            <p:spPr>
              <a:xfrm>
                <a:off x="3969720" y="6033240"/>
                <a:ext cx="243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328" name="Connector: Curved 86"/>
              <p:cNvCxnSpPr/>
              <p:nvPr/>
            </p:nvCxnSpPr>
            <p:spPr>
              <a:xfrm>
                <a:off x="4638240" y="4002840"/>
                <a:ext cx="1671840" cy="1785960"/>
              </a:xfrm>
              <a:prstGeom prst="curvedConnector5">
                <a:avLst>
                  <a:gd name="adj1" fmla="val 51776"/>
                  <a:gd name="adj2" fmla="val 50000"/>
                  <a:gd name="adj3" fmla="val 51776"/>
                </a:avLst>
              </a:prstGeom>
              <a:ln w="6480">
                <a:solidFill>
                  <a:srgbClr val="ff0000"/>
                </a:solidFill>
                <a:miter/>
                <a:tailEnd len="med" type="triangle" w="med"/>
              </a:ln>
            </p:spPr>
          </p:cxnSp>
          <p:sp>
            <p:nvSpPr>
              <p:cNvPr id="329" name="TextBox 30"/>
              <p:cNvSpPr/>
              <p:nvPr/>
            </p:nvSpPr>
            <p:spPr>
              <a:xfrm>
                <a:off x="5846760" y="5184000"/>
                <a:ext cx="177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Calibri"/>
                  </a:rPr>
                  <a:t>Aggressor Window 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0" name="Arc 59"/>
            <p:cNvSpPr/>
            <p:nvPr/>
          </p:nvSpPr>
          <p:spPr>
            <a:xfrm>
              <a:off x="4626000" y="2997720"/>
              <a:ext cx="3621600" cy="966960"/>
            </a:xfrm>
            <a:custGeom>
              <a:avLst/>
              <a:gdLst/>
              <a:ahLst/>
              <a:rect l="l" t="t" r="r" b="b"/>
              <a:pathLst>
                <a:path stroke="0" w="2308225" h="536575">
                  <a:moveTo>
                    <a:pt x="8275" y="236217"/>
                  </a:moveTo>
                  <a:cubicBezTo>
                    <a:pt x="78235" y="101142"/>
                    <a:pt x="572052" y="-376"/>
                    <a:pt x="1157307" y="1"/>
                  </a:cubicBezTo>
                  <a:cubicBezTo>
                    <a:pt x="1785398" y="405"/>
                    <a:pt x="2296784" y="117495"/>
                    <a:pt x="2308040" y="263480"/>
                  </a:cubicBezTo>
                  <a:lnTo>
                    <a:pt x="1154113" y="268288"/>
                  </a:lnTo>
                  <a:lnTo>
                    <a:pt x="8275" y="236217"/>
                  </a:lnTo>
                  <a:close/>
                </a:path>
                <a:path fill="none" w="2308225" h="536575">
                  <a:moveTo>
                    <a:pt x="8275" y="236217"/>
                  </a:moveTo>
                  <a:cubicBezTo>
                    <a:pt x="78235" y="101142"/>
                    <a:pt x="572052" y="-376"/>
                    <a:pt x="1157307" y="1"/>
                  </a:cubicBezTo>
                  <a:cubicBezTo>
                    <a:pt x="1785398" y="405"/>
                    <a:pt x="2296784" y="117495"/>
                    <a:pt x="2308040" y="263480"/>
                  </a:cubicBezTo>
                </a:path>
              </a:pathLst>
            </a:custGeom>
            <a:noFill/>
            <a:ln w="648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1" name="Rectangle 2"/>
          <p:cNvSpPr/>
          <p:nvPr/>
        </p:nvSpPr>
        <p:spPr>
          <a:xfrm>
            <a:off x="0" y="7270920"/>
            <a:ext cx="121921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stead, us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equired Arrival Time (dotted+solid arrow)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uild possible arrival tim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1"/>
          <p:cNvGrpSpPr/>
          <p:nvPr/>
        </p:nvGrpSpPr>
        <p:grpSpPr>
          <a:xfrm>
            <a:off x="2133360" y="5051520"/>
            <a:ext cx="7652160" cy="2489400"/>
            <a:chOff x="2133360" y="5051520"/>
            <a:chExt cx="7652160" cy="2489400"/>
          </a:xfrm>
        </p:grpSpPr>
        <p:grpSp>
          <p:nvGrpSpPr>
            <p:cNvPr id="333" name="Group 13"/>
            <p:cNvGrpSpPr/>
            <p:nvPr/>
          </p:nvGrpSpPr>
          <p:grpSpPr>
            <a:xfrm>
              <a:off x="2133360" y="5440680"/>
              <a:ext cx="7652160" cy="1324800"/>
              <a:chOff x="2133360" y="5440680"/>
              <a:chExt cx="7652160" cy="1324800"/>
            </a:xfrm>
          </p:grpSpPr>
          <p:cxnSp>
            <p:nvCxnSpPr>
              <p:cNvPr id="334" name="Straight Arrow Connector 134"/>
              <p:cNvCxnSpPr/>
              <p:nvPr/>
            </p:nvCxnSpPr>
            <p:spPr>
              <a:xfrm>
                <a:off x="2133360" y="6134400"/>
                <a:ext cx="7652520" cy="37440"/>
              </a:xfrm>
              <a:prstGeom prst="straightConnector1">
                <a:avLst/>
              </a:prstGeom>
              <a:ln w="6480">
                <a:solidFill>
                  <a:srgbClr val="0070c0"/>
                </a:solidFill>
                <a:miter/>
                <a:tailEnd len="med" type="triangle" w="med"/>
              </a:ln>
            </p:spPr>
          </p:cxnSp>
          <p:sp>
            <p:nvSpPr>
              <p:cNvPr id="335" name="Straight Connector 135"/>
              <p:cNvSpPr/>
              <p:nvPr/>
            </p:nvSpPr>
            <p:spPr>
              <a:xfrm>
                <a:off x="2694600" y="5997960"/>
                <a:ext cx="0" cy="349200"/>
              </a:xfrm>
              <a:prstGeom prst="line">
                <a:avLst/>
              </a:prstGeom>
              <a:ln w="64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Straight Connector 136"/>
              <p:cNvSpPr/>
              <p:nvPr/>
            </p:nvSpPr>
            <p:spPr>
              <a:xfrm>
                <a:off x="8422920" y="5997960"/>
                <a:ext cx="0" cy="349200"/>
              </a:xfrm>
              <a:prstGeom prst="line">
                <a:avLst/>
              </a:prstGeom>
              <a:ln w="648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TextBox 8"/>
              <p:cNvSpPr/>
              <p:nvPr/>
            </p:nvSpPr>
            <p:spPr>
              <a:xfrm>
                <a:off x="3195360" y="5440680"/>
                <a:ext cx="5785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4472c4"/>
                    </a:solidFill>
                    <a:latin typeface="Calibri"/>
                  </a:rPr>
                  <a:t>AT</a:t>
                </a:r>
                <a:r>
                  <a:rPr b="1" lang="en-US" sz="1600" spc="-1" strike="noStrike" baseline="-25000">
                    <a:solidFill>
                      <a:srgbClr val="4472c4"/>
                    </a:solidFill>
                    <a:latin typeface="Calibri"/>
                  </a:rPr>
                  <a:t>Vic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TextBox 9"/>
              <p:cNvSpPr/>
              <p:nvPr/>
            </p:nvSpPr>
            <p:spPr>
              <a:xfrm>
                <a:off x="6760080" y="6379200"/>
                <a:ext cx="6256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T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Calibri"/>
                  </a:rPr>
                  <a:t>Late 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Rectangle 139"/>
              <p:cNvSpPr/>
              <p:nvPr/>
            </p:nvSpPr>
            <p:spPr>
              <a:xfrm>
                <a:off x="5043960" y="5937480"/>
                <a:ext cx="2054880" cy="409680"/>
              </a:xfrm>
              <a:prstGeom prst="rect">
                <a:avLst/>
              </a:prstGeom>
              <a:solidFill>
                <a:srgbClr val="ff0000">
                  <a:alpha val="65000"/>
                </a:srgbClr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Straight Connector 140"/>
              <p:cNvSpPr/>
              <p:nvPr/>
            </p:nvSpPr>
            <p:spPr>
              <a:xfrm>
                <a:off x="3440520" y="5847480"/>
                <a:ext cx="1800" cy="499680"/>
              </a:xfrm>
              <a:prstGeom prst="line">
                <a:avLst/>
              </a:prstGeom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TextBox 35"/>
              <p:cNvSpPr/>
              <p:nvPr/>
            </p:nvSpPr>
            <p:spPr>
              <a:xfrm>
                <a:off x="9224640" y="5870520"/>
                <a:ext cx="55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im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TextBox 9"/>
              <p:cNvSpPr/>
              <p:nvPr/>
            </p:nvSpPr>
            <p:spPr>
              <a:xfrm>
                <a:off x="4812120" y="6347880"/>
                <a:ext cx="663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T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Calibri"/>
                  </a:rPr>
                  <a:t>Ear;y 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Rectangle 143"/>
              <p:cNvSpPr/>
              <p:nvPr/>
            </p:nvSpPr>
            <p:spPr>
              <a:xfrm>
                <a:off x="2694600" y="5951520"/>
                <a:ext cx="5728320" cy="409680"/>
              </a:xfrm>
              <a:prstGeom prst="rect">
                <a:avLst/>
              </a:prstGeom>
              <a:solidFill>
                <a:srgbClr val="ff0000">
                  <a:alpha val="65000"/>
                </a:srgbClr>
              </a:solidFill>
              <a:ln w="12600">
                <a:solidFill>
                  <a:srgbClr val="2f528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TextBox 9"/>
              <p:cNvSpPr/>
              <p:nvPr/>
            </p:nvSpPr>
            <p:spPr>
              <a:xfrm>
                <a:off x="8083800" y="6394680"/>
                <a:ext cx="753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alibri"/>
                  </a:rPr>
                  <a:t>RAT</a:t>
                </a:r>
                <a:r>
                  <a:rPr b="1" lang="en-US" sz="1600" spc="-1" strike="noStrike" baseline="-25000">
                    <a:solidFill>
                      <a:srgbClr val="ff0000"/>
                    </a:solidFill>
                    <a:latin typeface="Calibri"/>
                  </a:rPr>
                  <a:t>Late 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TextBox 9"/>
              <p:cNvSpPr/>
              <p:nvPr/>
            </p:nvSpPr>
            <p:spPr>
              <a:xfrm>
                <a:off x="2512080" y="6374880"/>
                <a:ext cx="788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Calibri"/>
                  </a:rPr>
                  <a:t>RAT</a:t>
                </a:r>
                <a:r>
                  <a:rPr b="1" lang="en-US" sz="1600" spc="-1" strike="noStrike" baseline="-25000">
                    <a:solidFill>
                      <a:srgbClr val="ff0000"/>
                    </a:solidFill>
                    <a:latin typeface="Calibri"/>
                  </a:rPr>
                  <a:t>Ear;y 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6" name="Right Brace 130"/>
            <p:cNvSpPr/>
            <p:nvPr/>
          </p:nvSpPr>
          <p:spPr>
            <a:xfrm rot="16200000">
              <a:off x="5850360" y="4647240"/>
              <a:ext cx="409320" cy="2035440"/>
            </a:xfrm>
            <a:custGeom>
              <a:avLst/>
              <a:gdLst>
                <a:gd name="textAreaLeft" fmla="*/ 0 w 409320"/>
                <a:gd name="textAreaRight" fmla="*/ 147600 w 409320"/>
                <a:gd name="textAreaTop" fmla="*/ 9360 h 2035440"/>
                <a:gd name="textAreaBottom" fmla="*/ 2026080 h 203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3"/>
                    <a:pt x="10800" y="326"/>
                  </a:cubicBezTo>
                  <a:lnTo>
                    <a:pt x="10800" y="10474"/>
                  </a:lnTo>
                  <a:cubicBezTo>
                    <a:pt x="10800" y="10637"/>
                    <a:pt x="16200" y="10800"/>
                    <a:pt x="21600" y="10800"/>
                  </a:cubicBezTo>
                  <a:cubicBezTo>
                    <a:pt x="16200" y="10800"/>
                    <a:pt x="10800" y="10963"/>
                    <a:pt x="10800" y="11126"/>
                  </a:cubicBezTo>
                  <a:lnTo>
                    <a:pt x="10800" y="21274"/>
                  </a:lnTo>
                  <a:cubicBezTo>
                    <a:pt x="10800" y="21437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Right Brace 131"/>
            <p:cNvSpPr/>
            <p:nvPr/>
          </p:nvSpPr>
          <p:spPr>
            <a:xfrm rot="5400000">
              <a:off x="5373000" y="4167360"/>
              <a:ext cx="439560" cy="5659560"/>
            </a:xfrm>
            <a:custGeom>
              <a:avLst/>
              <a:gdLst>
                <a:gd name="textAreaLeft" fmla="*/ 0 w 439560"/>
                <a:gd name="textAreaRight" fmla="*/ 158760 w 439560"/>
                <a:gd name="textAreaTop" fmla="*/ 10080 h 5659560"/>
                <a:gd name="textAreaBottom" fmla="*/ 5649480 h 565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63"/>
                    <a:pt x="10800" y="126"/>
                  </a:cubicBezTo>
                  <a:lnTo>
                    <a:pt x="10800" y="10674"/>
                  </a:lnTo>
                  <a:cubicBezTo>
                    <a:pt x="10800" y="10737"/>
                    <a:pt x="16200" y="10800"/>
                    <a:pt x="21600" y="10800"/>
                  </a:cubicBezTo>
                  <a:cubicBezTo>
                    <a:pt x="16200" y="10800"/>
                    <a:pt x="10800" y="10863"/>
                    <a:pt x="10800" y="10926"/>
                  </a:cubicBezTo>
                  <a:lnTo>
                    <a:pt x="10800" y="21474"/>
                  </a:lnTo>
                  <a:cubicBezTo>
                    <a:pt x="10800" y="21537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TextBox 35"/>
            <p:cNvSpPr/>
            <p:nvPr/>
          </p:nvSpPr>
          <p:spPr>
            <a:xfrm>
              <a:off x="4354560" y="5051520"/>
              <a:ext cx="340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ggressor window using AT 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35"/>
            <p:cNvSpPr/>
            <p:nvPr/>
          </p:nvSpPr>
          <p:spPr>
            <a:xfrm>
              <a:off x="3759120" y="7203600"/>
              <a:ext cx="366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New aggressor window derived from RA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0" name="Rectangle 2"/>
          <p:cNvSpPr/>
          <p:nvPr/>
        </p:nvSpPr>
        <p:spPr>
          <a:xfrm>
            <a:off x="0" y="7728120"/>
            <a:ext cx="12169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97560" indent="-9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posed window shows it i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ossible that Higher Level design could be changed to sync with victim A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 Therefore, noise should be computed to include this aggress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4"/>
          <p:cNvSpPr/>
          <p:nvPr/>
        </p:nvSpPr>
        <p:spPr>
          <a:xfrm>
            <a:off x="9448920" y="8656560"/>
            <a:ext cx="2743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55600"/>
                <a:tab algn="l" pos="512640"/>
                <a:tab algn="l" pos="770040"/>
                <a:tab algn="l" pos="1027080"/>
                <a:tab algn="l" pos="1284120"/>
                <a:tab algn="l" pos="1541520"/>
                <a:tab algn="l" pos="1798560"/>
                <a:tab algn="l" pos="2055960"/>
                <a:tab algn="l" pos="2313000"/>
                <a:tab algn="l" pos="2570040"/>
                <a:tab algn="l" pos="2827440"/>
                <a:tab algn="l" pos="3084480"/>
                <a:tab algn="l" pos="3341520"/>
                <a:tab algn="l" pos="3598920"/>
                <a:tab algn="l" pos="3855960"/>
                <a:tab algn="l" pos="4113360"/>
                <a:tab algn="l" pos="4370400"/>
                <a:tab algn="l" pos="4627440"/>
                <a:tab algn="l" pos="4884840"/>
                <a:tab algn="l" pos="51418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-20520" y="3917880"/>
            <a:ext cx="121917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90720" indent="-90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posed window is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set o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ll possible noise arrival at victim pi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272520" indent="-907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ndependent of Higher Level design chang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0" y="609480"/>
            <a:ext cx="1219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255600"/>
                <a:tab algn="l" pos="512640"/>
                <a:tab algn="l" pos="770040"/>
                <a:tab algn="l" pos="1027080"/>
                <a:tab algn="l" pos="1284120"/>
                <a:tab algn="l" pos="1541520"/>
                <a:tab algn="l" pos="1798560"/>
                <a:tab algn="l" pos="2055960"/>
                <a:tab algn="l" pos="2313000"/>
                <a:tab algn="l" pos="2570040"/>
                <a:tab algn="l" pos="2827440"/>
                <a:tab algn="l" pos="3084480"/>
                <a:tab algn="l" pos="3341520"/>
                <a:tab algn="l" pos="3598920"/>
                <a:tab algn="l" pos="3855960"/>
                <a:tab algn="l" pos="4113360"/>
                <a:tab algn="l" pos="4370400"/>
                <a:tab algn="l" pos="4627440"/>
                <a:tab algn="l" pos="4884840"/>
                <a:tab algn="l" pos="514188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Solution – RAT based Victim Window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Group 99"/>
          <p:cNvGrpSpPr/>
          <p:nvPr/>
        </p:nvGrpSpPr>
        <p:grpSpPr>
          <a:xfrm>
            <a:off x="152280" y="2168640"/>
            <a:ext cx="11582640" cy="4460760"/>
            <a:chOff x="152280" y="2168640"/>
            <a:chExt cx="11582640" cy="4460760"/>
          </a:xfrm>
        </p:grpSpPr>
        <p:sp>
          <p:nvSpPr>
            <p:cNvPr id="355" name="Rectangle 60"/>
            <p:cNvSpPr/>
            <p:nvPr/>
          </p:nvSpPr>
          <p:spPr>
            <a:xfrm>
              <a:off x="9793080" y="3926520"/>
              <a:ext cx="955080" cy="121104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Rectangle 60"/>
            <p:cNvSpPr/>
            <p:nvPr/>
          </p:nvSpPr>
          <p:spPr>
            <a:xfrm>
              <a:off x="9597960" y="5303880"/>
              <a:ext cx="958320" cy="1211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Rectangle 6"/>
            <p:cNvSpPr/>
            <p:nvPr/>
          </p:nvSpPr>
          <p:spPr>
            <a:xfrm>
              <a:off x="1613160" y="2168640"/>
              <a:ext cx="10121760" cy="446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TextBox 16"/>
            <p:cNvSpPr/>
            <p:nvPr/>
          </p:nvSpPr>
          <p:spPr>
            <a:xfrm>
              <a:off x="3977280" y="5980320"/>
              <a:ext cx="116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alibri"/>
                </a:rPr>
                <a:t>Aggressor-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Straight Connector 26"/>
            <p:cNvSpPr/>
            <p:nvPr/>
          </p:nvSpPr>
          <p:spPr>
            <a:xfrm>
              <a:off x="152280" y="4384800"/>
              <a:ext cx="144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Straight Connector 27"/>
            <p:cNvSpPr/>
            <p:nvPr/>
          </p:nvSpPr>
          <p:spPr>
            <a:xfrm>
              <a:off x="1600920" y="4384800"/>
              <a:ext cx="192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Straight Connector 28"/>
            <p:cNvSpPr/>
            <p:nvPr/>
          </p:nvSpPr>
          <p:spPr>
            <a:xfrm>
              <a:off x="4178520" y="4384800"/>
              <a:ext cx="2822760" cy="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TextBox 29"/>
            <p:cNvSpPr/>
            <p:nvPr/>
          </p:nvSpPr>
          <p:spPr>
            <a:xfrm>
              <a:off x="9906480" y="393876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L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TextBox 30"/>
            <p:cNvSpPr/>
            <p:nvPr/>
          </p:nvSpPr>
          <p:spPr>
            <a:xfrm>
              <a:off x="3883320" y="5569920"/>
              <a:ext cx="57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alibri"/>
                </a:rPr>
                <a:t>AT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Calibri"/>
                </a:rPr>
                <a:t>Ag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Straight Connector 36"/>
            <p:cNvSpPr/>
            <p:nvPr/>
          </p:nvSpPr>
          <p:spPr>
            <a:xfrm>
              <a:off x="7693200" y="4384800"/>
              <a:ext cx="2099880" cy="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TextBox 39"/>
            <p:cNvSpPr/>
            <p:nvPr/>
          </p:nvSpPr>
          <p:spPr>
            <a:xfrm>
              <a:off x="9146520" y="4030200"/>
              <a:ext cx="651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Calibri"/>
                </a:rPr>
                <a:t>RAT</a:t>
              </a:r>
              <a:r>
                <a:rPr b="0" lang="en-US" sz="1600" spc="-1" strike="noStrike" baseline="-25000">
                  <a:solidFill>
                    <a:srgbClr val="0070c0"/>
                  </a:solidFill>
                  <a:latin typeface="Calibri"/>
                </a:rPr>
                <a:t>Vi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Straight Connector 43"/>
            <p:cNvSpPr/>
            <p:nvPr/>
          </p:nvSpPr>
          <p:spPr>
            <a:xfrm>
              <a:off x="5133960" y="5280840"/>
              <a:ext cx="0" cy="64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Straight Connector 41"/>
            <p:cNvSpPr/>
            <p:nvPr/>
          </p:nvSpPr>
          <p:spPr>
            <a:xfrm>
              <a:off x="4842360" y="5080680"/>
              <a:ext cx="57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Straight Connector 47"/>
            <p:cNvSpPr/>
            <p:nvPr/>
          </p:nvSpPr>
          <p:spPr>
            <a:xfrm>
              <a:off x="4842360" y="5266440"/>
              <a:ext cx="57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TextBox 49"/>
            <p:cNvSpPr/>
            <p:nvPr/>
          </p:nvSpPr>
          <p:spPr>
            <a:xfrm>
              <a:off x="731880" y="4006800"/>
              <a:ext cx="70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Calibri"/>
                </a:rPr>
                <a:t>Victi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Isosceles Triangle 59"/>
            <p:cNvSpPr/>
            <p:nvPr/>
          </p:nvSpPr>
          <p:spPr>
            <a:xfrm rot="5400000">
              <a:off x="6826680" y="5623560"/>
              <a:ext cx="721440" cy="626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TextBox 61"/>
            <p:cNvSpPr/>
            <p:nvPr/>
          </p:nvSpPr>
          <p:spPr>
            <a:xfrm>
              <a:off x="9649080" y="535176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L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Straight Connector 62"/>
            <p:cNvSpPr/>
            <p:nvPr/>
          </p:nvSpPr>
          <p:spPr>
            <a:xfrm>
              <a:off x="7500960" y="5936760"/>
              <a:ext cx="2096640" cy="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TextBox 66"/>
            <p:cNvSpPr/>
            <p:nvPr/>
          </p:nvSpPr>
          <p:spPr>
            <a:xfrm>
              <a:off x="6324480" y="4021560"/>
              <a:ext cx="1069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70c0"/>
                  </a:solidFill>
                  <a:latin typeface="Calibri"/>
                </a:rPr>
                <a:t>AT</a:t>
              </a:r>
              <a:r>
                <a:rPr b="0" lang="en-US" sz="1600" spc="-1" strike="noStrike" baseline="-25000">
                  <a:solidFill>
                    <a:srgbClr val="0070c0"/>
                  </a:solidFill>
                  <a:latin typeface="Calibri"/>
                </a:rPr>
                <a:t>Vi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Rectangle 60"/>
            <p:cNvSpPr/>
            <p:nvPr/>
          </p:nvSpPr>
          <p:spPr>
            <a:xfrm>
              <a:off x="2810520" y="5280840"/>
              <a:ext cx="958320" cy="1211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TextBox 61"/>
            <p:cNvSpPr/>
            <p:nvPr/>
          </p:nvSpPr>
          <p:spPr>
            <a:xfrm>
              <a:off x="2852640" y="536328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L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Straight Connector 63"/>
            <p:cNvSpPr/>
            <p:nvPr/>
          </p:nvSpPr>
          <p:spPr>
            <a:xfrm>
              <a:off x="3769200" y="5942520"/>
              <a:ext cx="302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77" name="Connector: Curved 123"/>
            <p:cNvCxnSpPr>
              <a:stCxn id="363" idx="3"/>
            </p:cNvCxnSpPr>
            <p:nvPr/>
          </p:nvCxnSpPr>
          <p:spPr>
            <a:xfrm flipV="1">
              <a:off x="4547520" y="4604400"/>
              <a:ext cx="2134440" cy="1152000"/>
            </a:xfrm>
            <a:prstGeom prst="curvedConnector5">
              <a:avLst>
                <a:gd name="adj1" fmla="val 50000"/>
                <a:gd name="adj2" fmla="val 49984"/>
                <a:gd name="adj3" fmla="val 50000"/>
              </a:avLst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378" name="Arc 124"/>
            <p:cNvSpPr/>
            <p:nvPr/>
          </p:nvSpPr>
          <p:spPr>
            <a:xfrm>
              <a:off x="6747120" y="3758760"/>
              <a:ext cx="2889360" cy="877680"/>
            </a:xfrm>
            <a:custGeom>
              <a:avLst/>
              <a:gdLst/>
              <a:ahLst/>
              <a:rect l="l" t="t" r="r" b="b"/>
              <a:pathLst>
                <a:path stroke="0" w="1478841" h="486661">
                  <a:moveTo>
                    <a:pt x="2660" y="222710"/>
                  </a:moveTo>
                  <a:cubicBezTo>
                    <a:pt x="35303" y="96405"/>
                    <a:pt x="357128" y="-495"/>
                    <a:pt x="742319" y="2"/>
                  </a:cubicBezTo>
                  <a:cubicBezTo>
                    <a:pt x="1145907" y="522"/>
                    <a:pt x="1473674" y="107446"/>
                    <a:pt x="1478783" y="240250"/>
                  </a:cubicBezTo>
                  <a:lnTo>
                    <a:pt x="739421" y="243331"/>
                  </a:lnTo>
                  <a:lnTo>
                    <a:pt x="2660" y="222710"/>
                  </a:lnTo>
                  <a:close/>
                </a:path>
                <a:path fill="none" w="1478841" h="486661">
                  <a:moveTo>
                    <a:pt x="2660" y="222710"/>
                  </a:moveTo>
                  <a:cubicBezTo>
                    <a:pt x="35303" y="96405"/>
                    <a:pt x="357128" y="-495"/>
                    <a:pt x="742319" y="2"/>
                  </a:cubicBezTo>
                  <a:cubicBezTo>
                    <a:pt x="1145907" y="522"/>
                    <a:pt x="1473674" y="107446"/>
                    <a:pt x="1478783" y="240250"/>
                  </a:cubicBezTo>
                </a:path>
              </a:pathLst>
            </a:custGeom>
            <a:noFill/>
            <a:ln w="6480">
              <a:solidFill>
                <a:srgbClr val="0070c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Straight Connector 43"/>
            <p:cNvSpPr/>
            <p:nvPr/>
          </p:nvSpPr>
          <p:spPr>
            <a:xfrm>
              <a:off x="5127840" y="4439160"/>
              <a:ext cx="0" cy="64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Isosceles Triangle 59"/>
            <p:cNvSpPr/>
            <p:nvPr/>
          </p:nvSpPr>
          <p:spPr>
            <a:xfrm rot="5400000">
              <a:off x="7018920" y="4071600"/>
              <a:ext cx="721440" cy="62640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Isosceles Triangle 59"/>
            <p:cNvSpPr/>
            <p:nvPr/>
          </p:nvSpPr>
          <p:spPr>
            <a:xfrm rot="5400000">
              <a:off x="3504240" y="4071600"/>
              <a:ext cx="721440" cy="62640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Rectangle 60"/>
            <p:cNvSpPr/>
            <p:nvPr/>
          </p:nvSpPr>
          <p:spPr>
            <a:xfrm>
              <a:off x="8549280" y="2334600"/>
              <a:ext cx="955080" cy="1211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TextBox 16"/>
            <p:cNvSpPr/>
            <p:nvPr/>
          </p:nvSpPr>
          <p:spPr>
            <a:xfrm>
              <a:off x="2978640" y="3003120"/>
              <a:ext cx="117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alibri"/>
                </a:rPr>
                <a:t>Aggressor-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TextBox 30"/>
            <p:cNvSpPr/>
            <p:nvPr/>
          </p:nvSpPr>
          <p:spPr>
            <a:xfrm>
              <a:off x="2831400" y="2593080"/>
              <a:ext cx="5752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alibri"/>
                </a:rPr>
                <a:t>AT</a:t>
              </a:r>
              <a:r>
                <a:rPr b="0" lang="en-US" sz="1600" spc="-1" strike="noStrike" baseline="-25000">
                  <a:solidFill>
                    <a:srgbClr val="ff0000"/>
                  </a:solidFill>
                  <a:latin typeface="Calibri"/>
                </a:rPr>
                <a:t>Ag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Straight Connector 43"/>
            <p:cNvSpPr/>
            <p:nvPr/>
          </p:nvSpPr>
          <p:spPr>
            <a:xfrm>
              <a:off x="4743000" y="3700440"/>
              <a:ext cx="0" cy="64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Straight Connector 41"/>
            <p:cNvSpPr/>
            <p:nvPr/>
          </p:nvSpPr>
          <p:spPr>
            <a:xfrm>
              <a:off x="4454640" y="3499920"/>
              <a:ext cx="5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Straight Connector 47"/>
            <p:cNvSpPr/>
            <p:nvPr/>
          </p:nvSpPr>
          <p:spPr>
            <a:xfrm>
              <a:off x="4454640" y="3686040"/>
              <a:ext cx="5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Isosceles Triangle 59"/>
            <p:cNvSpPr/>
            <p:nvPr/>
          </p:nvSpPr>
          <p:spPr>
            <a:xfrm rot="5400000">
              <a:off x="5773680" y="2652480"/>
              <a:ext cx="724320" cy="6264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TextBox 61"/>
            <p:cNvSpPr/>
            <p:nvPr/>
          </p:nvSpPr>
          <p:spPr>
            <a:xfrm>
              <a:off x="8597520" y="238248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L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Straight Connector 62"/>
            <p:cNvSpPr/>
            <p:nvPr/>
          </p:nvSpPr>
          <p:spPr>
            <a:xfrm>
              <a:off x="6449400" y="2967480"/>
              <a:ext cx="209988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Rectangle 60"/>
            <p:cNvSpPr/>
            <p:nvPr/>
          </p:nvSpPr>
          <p:spPr>
            <a:xfrm>
              <a:off x="1762200" y="2311560"/>
              <a:ext cx="955080" cy="12110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TextBox 61"/>
            <p:cNvSpPr/>
            <p:nvPr/>
          </p:nvSpPr>
          <p:spPr>
            <a:xfrm>
              <a:off x="1803960" y="239400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L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Straight Connector 63"/>
            <p:cNvSpPr/>
            <p:nvPr/>
          </p:nvSpPr>
          <p:spPr>
            <a:xfrm>
              <a:off x="2717640" y="2970360"/>
              <a:ext cx="30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Straight Connector 43"/>
            <p:cNvSpPr/>
            <p:nvPr/>
          </p:nvSpPr>
          <p:spPr>
            <a:xfrm>
              <a:off x="4743000" y="2961720"/>
              <a:ext cx="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95" name="Connector: Curved 142"/>
            <p:cNvCxnSpPr>
              <a:endCxn id="373" idx="1"/>
            </p:cNvCxnSpPr>
            <p:nvPr/>
          </p:nvCxnSpPr>
          <p:spPr>
            <a:xfrm>
              <a:off x="3904560" y="2804400"/>
              <a:ext cx="2420280" cy="1404000"/>
            </a:xfrm>
            <a:prstGeom prst="curvedConnector5">
              <a:avLst>
                <a:gd name="adj1" fmla="val 50000"/>
                <a:gd name="adj2" fmla="val 49987"/>
                <a:gd name="adj3" fmla="val 50000"/>
              </a:avLst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396" name="Rectangle 2"/>
          <p:cNvSpPr/>
          <p:nvPr/>
        </p:nvSpPr>
        <p:spPr>
          <a:xfrm>
            <a:off x="0" y="1260360"/>
            <a:ext cx="1219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Victim AT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Calibri"/>
              </a:rPr>
              <a:t>Vic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 shown is a constraint, and may chang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f Higher Level design is chang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0" y="6966000"/>
            <a:ext cx="121921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106200" indent="-106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 Required Arrival Time (RAT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VI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to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reate a range of all possible victim arrival tim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at covers all possible Higher Level design chang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10648800" y="8640720"/>
            <a:ext cx="1543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55600"/>
                <a:tab algn="l" pos="512640"/>
                <a:tab algn="l" pos="770040"/>
                <a:tab algn="l" pos="1027080"/>
                <a:tab algn="l" pos="1284120"/>
                <a:tab algn="l" pos="1541520"/>
                <a:tab algn="l" pos="1798560"/>
                <a:tab algn="l" pos="2055960"/>
                <a:tab algn="l" pos="2313000"/>
                <a:tab algn="l" pos="2570040"/>
                <a:tab algn="l" pos="2827440"/>
                <a:tab algn="l" pos="3084480"/>
                <a:tab algn="l" pos="3341520"/>
                <a:tab algn="l" pos="3598920"/>
                <a:tab algn="l" pos="3855960"/>
                <a:tab algn="l" pos="4113360"/>
                <a:tab algn="l" pos="4370400"/>
                <a:tab algn="l" pos="4627440"/>
                <a:tab algn="l" pos="4884840"/>
                <a:tab algn="l" pos="51418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icrosoft YaHe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144"/>
          <p:cNvGrpSpPr/>
          <p:nvPr/>
        </p:nvGrpSpPr>
        <p:grpSpPr>
          <a:xfrm>
            <a:off x="1485720" y="3276720"/>
            <a:ext cx="9220320" cy="3110040"/>
            <a:chOff x="1485720" y="3276720"/>
            <a:chExt cx="9220320" cy="3110040"/>
          </a:xfrm>
        </p:grpSpPr>
        <p:grpSp>
          <p:nvGrpSpPr>
            <p:cNvPr id="400" name="Group 8"/>
            <p:cNvGrpSpPr/>
            <p:nvPr/>
          </p:nvGrpSpPr>
          <p:grpSpPr>
            <a:xfrm>
              <a:off x="1485720" y="3301920"/>
              <a:ext cx="9220320" cy="3084840"/>
              <a:chOff x="1485720" y="3301920"/>
              <a:chExt cx="9220320" cy="3084840"/>
            </a:xfrm>
          </p:grpSpPr>
          <p:grpSp>
            <p:nvGrpSpPr>
              <p:cNvPr id="401" name="Group 13"/>
              <p:cNvGrpSpPr/>
              <p:nvPr/>
            </p:nvGrpSpPr>
            <p:grpSpPr>
              <a:xfrm>
                <a:off x="1485720" y="3546000"/>
                <a:ext cx="9220320" cy="1730880"/>
                <a:chOff x="1485720" y="3546000"/>
                <a:chExt cx="9220320" cy="1730880"/>
              </a:xfrm>
            </p:grpSpPr>
            <p:sp>
              <p:nvSpPr>
                <p:cNvPr id="402" name="Rectangle 157"/>
                <p:cNvSpPr/>
                <p:nvPr/>
              </p:nvSpPr>
              <p:spPr>
                <a:xfrm>
                  <a:off x="3065040" y="4465080"/>
                  <a:ext cx="5999400" cy="406080"/>
                </a:xfrm>
                <a:prstGeom prst="rect">
                  <a:avLst/>
                </a:prstGeom>
                <a:solidFill>
                  <a:srgbClr val="00b0f0">
                    <a:alpha val="65000"/>
                  </a:srgbClr>
                </a:solidFill>
                <a:ln w="12600">
                  <a:solidFill>
                    <a:srgbClr val="2f528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403" name="Straight Arrow Connector 158"/>
                <p:cNvCxnSpPr/>
                <p:nvPr/>
              </p:nvCxnSpPr>
              <p:spPr>
                <a:xfrm>
                  <a:off x="1485720" y="4645800"/>
                  <a:ext cx="9220680" cy="37080"/>
                </a:xfrm>
                <a:prstGeom prst="straightConnector1">
                  <a:avLst/>
                </a:prstGeom>
                <a:ln w="6480">
                  <a:solidFill>
                    <a:srgbClr val="0070c0"/>
                  </a:solidFill>
                  <a:miter/>
                  <a:tailEnd len="med" type="triangle" w="med"/>
                </a:ln>
              </p:spPr>
            </p:cxnSp>
            <p:sp>
              <p:nvSpPr>
                <p:cNvPr id="404" name="Straight Connector 159"/>
                <p:cNvSpPr/>
                <p:nvPr/>
              </p:nvSpPr>
              <p:spPr>
                <a:xfrm>
                  <a:off x="2161080" y="4510800"/>
                  <a:ext cx="0" cy="346320"/>
                </a:xfrm>
                <a:prstGeom prst="line">
                  <a:avLst/>
                </a:prstGeom>
                <a:ln w="648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5" name="Straight Connector 160"/>
                <p:cNvSpPr/>
                <p:nvPr/>
              </p:nvSpPr>
              <p:spPr>
                <a:xfrm>
                  <a:off x="9064440" y="4510800"/>
                  <a:ext cx="0" cy="346320"/>
                </a:xfrm>
                <a:prstGeom prst="line">
                  <a:avLst/>
                </a:prstGeom>
                <a:ln w="648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6" name="TextBox 8"/>
                <p:cNvSpPr/>
                <p:nvPr/>
              </p:nvSpPr>
              <p:spPr>
                <a:xfrm>
                  <a:off x="2064240" y="3546000"/>
                  <a:ext cx="215892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Original Constraint </a:t>
                  </a:r>
                  <a:r>
                    <a:rPr b="1" lang="en-US" sz="1600" spc="-1" strike="noStrike">
                      <a:solidFill>
                        <a:srgbClr val="4472c4"/>
                      </a:solidFill>
                      <a:latin typeface="Calibri"/>
                    </a:rPr>
                    <a:t>AT</a:t>
                  </a:r>
                  <a:r>
                    <a:rPr b="1" lang="en-US" sz="1600" spc="-1" strike="noStrike" baseline="-25000">
                      <a:solidFill>
                        <a:srgbClr val="4472c4"/>
                      </a:solidFill>
                      <a:latin typeface="Calibri"/>
                    </a:rPr>
                    <a:t>Vic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7" name="Rectangle 162"/>
                <p:cNvSpPr/>
                <p:nvPr/>
              </p:nvSpPr>
              <p:spPr>
                <a:xfrm>
                  <a:off x="4194360" y="4451400"/>
                  <a:ext cx="1762200" cy="415080"/>
                </a:xfrm>
                <a:prstGeom prst="rect">
                  <a:avLst/>
                </a:prstGeom>
                <a:solidFill>
                  <a:srgbClr val="ff0000">
                    <a:alpha val="65000"/>
                  </a:srgbClr>
                </a:solidFill>
                <a:ln w="12600">
                  <a:solidFill>
                    <a:srgbClr val="2f528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8" name="Straight Connector 163"/>
                <p:cNvSpPr/>
                <p:nvPr/>
              </p:nvSpPr>
              <p:spPr>
                <a:xfrm>
                  <a:off x="3065040" y="4189680"/>
                  <a:ext cx="0" cy="667800"/>
                </a:xfrm>
                <a:prstGeom prst="line">
                  <a:avLst/>
                </a:prstGeom>
                <a:ln w="25560">
                  <a:solidFill>
                    <a:srgbClr val="007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9" name="TextBox 35"/>
                <p:cNvSpPr/>
                <p:nvPr/>
              </p:nvSpPr>
              <p:spPr>
                <a:xfrm>
                  <a:off x="10096920" y="4354200"/>
                  <a:ext cx="555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time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0" name="TextBox 9"/>
                <p:cNvSpPr/>
                <p:nvPr/>
              </p:nvSpPr>
              <p:spPr>
                <a:xfrm>
                  <a:off x="8648640" y="4906080"/>
                  <a:ext cx="686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1600" spc="-1" strike="noStrike">
                      <a:solidFill>
                        <a:srgbClr val="0070c0"/>
                      </a:solidFill>
                      <a:latin typeface="Calibri"/>
                    </a:rPr>
                    <a:t>RAT</a:t>
                  </a:r>
                  <a:r>
                    <a:rPr b="1" lang="en-US" sz="1600" spc="-1" strike="noStrike" baseline="-25000">
                      <a:solidFill>
                        <a:srgbClr val="0070c0"/>
                      </a:solidFill>
                      <a:latin typeface="Calibri"/>
                    </a:rPr>
                    <a:t>Vic</a:t>
                  </a:r>
                  <a:r>
                    <a:rPr b="1" lang="en-US" sz="1200" spc="-1" strike="noStrike" baseline="-25000">
                      <a:solidFill>
                        <a:srgbClr val="0070c0"/>
                      </a:solidFill>
                      <a:latin typeface="Calibri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11" name="Right Brace 152"/>
              <p:cNvSpPr/>
              <p:nvPr/>
            </p:nvSpPr>
            <p:spPr>
              <a:xfrm rot="5400000">
                <a:off x="5688000" y="2658240"/>
                <a:ext cx="752400" cy="5999400"/>
              </a:xfrm>
              <a:custGeom>
                <a:avLst/>
                <a:gdLst>
                  <a:gd name="textAreaLeft" fmla="*/ 0 w 752400"/>
                  <a:gd name="textAreaRight" fmla="*/ 271800 w 752400"/>
                  <a:gd name="textAreaTop" fmla="*/ 21240 h 5999400"/>
                  <a:gd name="textAreaBottom" fmla="*/ 5978160 h 599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124"/>
                      <a:pt x="10800" y="247"/>
                    </a:cubicBezTo>
                    <a:lnTo>
                      <a:pt x="10800" y="10553"/>
                    </a:lnTo>
                    <a:cubicBezTo>
                      <a:pt x="10800" y="10677"/>
                      <a:pt x="16200" y="10800"/>
                      <a:pt x="21600" y="10800"/>
                    </a:cubicBezTo>
                    <a:cubicBezTo>
                      <a:pt x="16200" y="10800"/>
                      <a:pt x="10800" y="10924"/>
                      <a:pt x="10800" y="11047"/>
                    </a:cubicBezTo>
                    <a:lnTo>
                      <a:pt x="10800" y="21353"/>
                    </a:lnTo>
                    <a:cubicBezTo>
                      <a:pt x="10800" y="21477"/>
                      <a:pt x="5400" y="21600"/>
                      <a:pt x="0" y="21600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TextBox 35"/>
              <p:cNvSpPr/>
              <p:nvPr/>
            </p:nvSpPr>
            <p:spPr>
              <a:xfrm>
                <a:off x="3519000" y="6049440"/>
                <a:ext cx="5374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Range of all potential victim ATs derived from RA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ight Brace 154"/>
              <p:cNvSpPr/>
              <p:nvPr/>
            </p:nvSpPr>
            <p:spPr>
              <a:xfrm rot="16200000">
                <a:off x="4863240" y="3360240"/>
                <a:ext cx="454320" cy="1731960"/>
              </a:xfrm>
              <a:custGeom>
                <a:avLst/>
                <a:gdLst>
                  <a:gd name="textAreaLeft" fmla="*/ 0 w 454320"/>
                  <a:gd name="textAreaRight" fmla="*/ 164160 w 454320"/>
                  <a:gd name="textAreaTop" fmla="*/ 12600 h 1731960"/>
                  <a:gd name="textAreaBottom" fmla="*/ 1719360 h 173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258"/>
                      <a:pt x="10800" y="516"/>
                    </a:cubicBezTo>
                    <a:lnTo>
                      <a:pt x="10800" y="10284"/>
                    </a:lnTo>
                    <a:cubicBezTo>
                      <a:pt x="10800" y="10542"/>
                      <a:pt x="16200" y="10800"/>
                      <a:pt x="21600" y="10800"/>
                    </a:cubicBezTo>
                    <a:cubicBezTo>
                      <a:pt x="16200" y="10800"/>
                      <a:pt x="10800" y="11058"/>
                      <a:pt x="10800" y="11316"/>
                    </a:cubicBezTo>
                    <a:lnTo>
                      <a:pt x="10800" y="21084"/>
                    </a:lnTo>
                    <a:cubicBezTo>
                      <a:pt x="10800" y="21342"/>
                      <a:pt x="5400" y="21600"/>
                      <a:pt x="0" y="21600"/>
                    </a:cubicBez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TextBox 35"/>
              <p:cNvSpPr/>
              <p:nvPr/>
            </p:nvSpPr>
            <p:spPr>
              <a:xfrm>
                <a:off x="4530960" y="3301920"/>
                <a:ext cx="1175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Aggressor-A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window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TextBox 8"/>
              <p:cNvSpPr/>
              <p:nvPr/>
            </p:nvSpPr>
            <p:spPr>
              <a:xfrm>
                <a:off x="4193640" y="5119200"/>
                <a:ext cx="377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0070c0"/>
                    </a:solidFill>
                    <a:latin typeface="Calibri"/>
                  </a:rPr>
                  <a:t>New worst case     AT and window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6" name="Rectangle 146"/>
            <p:cNvSpPr/>
            <p:nvPr/>
          </p:nvSpPr>
          <p:spPr>
            <a:xfrm>
              <a:off x="6386040" y="4471920"/>
              <a:ext cx="1764720" cy="396720"/>
            </a:xfrm>
            <a:prstGeom prst="rect">
              <a:avLst/>
            </a:prstGeom>
            <a:solidFill>
              <a:srgbClr val="ff0000">
                <a:alpha val="65000"/>
              </a:srgbClr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Right Brace 147"/>
            <p:cNvSpPr/>
            <p:nvPr/>
          </p:nvSpPr>
          <p:spPr>
            <a:xfrm rot="16200000">
              <a:off x="7032240" y="3335040"/>
              <a:ext cx="454320" cy="1731960"/>
            </a:xfrm>
            <a:custGeom>
              <a:avLst/>
              <a:gdLst>
                <a:gd name="textAreaLeft" fmla="*/ 0 w 454320"/>
                <a:gd name="textAreaRight" fmla="*/ 164160 w 454320"/>
                <a:gd name="textAreaTop" fmla="*/ 12600 h 1731960"/>
                <a:gd name="textAreaBottom" fmla="*/ 1719360 h 173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58"/>
                    <a:pt x="10800" y="516"/>
                  </a:cubicBezTo>
                  <a:lnTo>
                    <a:pt x="10800" y="10284"/>
                  </a:lnTo>
                  <a:cubicBezTo>
                    <a:pt x="10800" y="10542"/>
                    <a:pt x="16200" y="10800"/>
                    <a:pt x="21600" y="10800"/>
                  </a:cubicBezTo>
                  <a:cubicBezTo>
                    <a:pt x="16200" y="10800"/>
                    <a:pt x="10800" y="11058"/>
                    <a:pt x="10800" y="11316"/>
                  </a:cubicBezTo>
                  <a:lnTo>
                    <a:pt x="10800" y="21084"/>
                  </a:lnTo>
                  <a:cubicBezTo>
                    <a:pt x="10800" y="21342"/>
                    <a:pt x="5400" y="21600"/>
                    <a:pt x="0" y="21600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TextBox 35"/>
            <p:cNvSpPr/>
            <p:nvPr/>
          </p:nvSpPr>
          <p:spPr>
            <a:xfrm>
              <a:off x="6704280" y="3276720"/>
              <a:ext cx="116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ggressor-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wind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Rectangle 149"/>
            <p:cNvSpPr/>
            <p:nvPr/>
          </p:nvSpPr>
          <p:spPr>
            <a:xfrm>
              <a:off x="5504760" y="4467600"/>
              <a:ext cx="1335240" cy="401400"/>
            </a:xfrm>
            <a:prstGeom prst="rect">
              <a:avLst/>
            </a:prstGeom>
            <a:solidFill>
              <a:srgbClr val="595959">
                <a:alpha val="76000"/>
              </a:srgbClr>
            </a:solidFill>
            <a:ln w="12600">
              <a:solidFill>
                <a:srgbClr val="2f52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ight Brace 150"/>
            <p:cNvSpPr/>
            <p:nvPr/>
          </p:nvSpPr>
          <p:spPr>
            <a:xfrm rot="5400000">
              <a:off x="6010920" y="4416120"/>
              <a:ext cx="311760" cy="1345320"/>
            </a:xfrm>
            <a:custGeom>
              <a:avLst/>
              <a:gdLst>
                <a:gd name="textAreaLeft" fmla="*/ 0 w 311760"/>
                <a:gd name="textAreaRight" fmla="*/ 112680 w 311760"/>
                <a:gd name="textAreaTop" fmla="*/ 8640 h 1345320"/>
                <a:gd name="textAreaBottom" fmla="*/ 1336680 h 134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29"/>
                    <a:pt x="10800" y="457"/>
                  </a:cubicBezTo>
                  <a:lnTo>
                    <a:pt x="10800" y="11201"/>
                  </a:lnTo>
                  <a:cubicBezTo>
                    <a:pt x="10800" y="11430"/>
                    <a:pt x="16200" y="11658"/>
                    <a:pt x="21600" y="11658"/>
                  </a:cubicBezTo>
                  <a:cubicBezTo>
                    <a:pt x="16200" y="11658"/>
                    <a:pt x="10800" y="11887"/>
                    <a:pt x="10800" y="12115"/>
                  </a:cubicBezTo>
                  <a:lnTo>
                    <a:pt x="10800" y="21143"/>
                  </a:lnTo>
                  <a:cubicBezTo>
                    <a:pt x="10800" y="21372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Rectangle 2"/>
          <p:cNvSpPr/>
          <p:nvPr/>
        </p:nvSpPr>
        <p:spPr>
          <a:xfrm>
            <a:off x="0" y="6781680"/>
            <a:ext cx="1219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marL="59760" indent="-597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Use worst victim arrival tim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largest coupled noise) within this range of all possible arrival times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80000" indent="-597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er Level design could change such that this would be the correct coupled noi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80000" indent="-597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ower Level design can be closed with no concern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bout missing coupled noi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4"/>
          <p:cNvSpPr/>
          <p:nvPr/>
        </p:nvSpPr>
        <p:spPr>
          <a:xfrm>
            <a:off x="9448920" y="8656560"/>
            <a:ext cx="27432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55600"/>
                <a:tab algn="l" pos="512640"/>
                <a:tab algn="l" pos="770040"/>
                <a:tab algn="l" pos="1027080"/>
                <a:tab algn="l" pos="1284120"/>
                <a:tab algn="l" pos="1541520"/>
                <a:tab algn="l" pos="1798560"/>
                <a:tab algn="l" pos="2055960"/>
                <a:tab algn="l" pos="2313000"/>
                <a:tab algn="l" pos="2570040"/>
                <a:tab algn="l" pos="2827440"/>
                <a:tab algn="l" pos="3084480"/>
                <a:tab algn="l" pos="3341520"/>
                <a:tab algn="l" pos="3598920"/>
                <a:tab algn="l" pos="3855960"/>
                <a:tab algn="l" pos="4113360"/>
                <a:tab algn="l" pos="4370400"/>
                <a:tab algn="l" pos="4627440"/>
                <a:tab algn="l" pos="4884840"/>
                <a:tab algn="l" pos="51418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"/>
          <p:cNvSpPr/>
          <p:nvPr/>
        </p:nvSpPr>
        <p:spPr>
          <a:xfrm>
            <a:off x="2666880" y="609480"/>
            <a:ext cx="68580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255600"/>
                <a:tab algn="l" pos="512640"/>
                <a:tab algn="l" pos="770040"/>
                <a:tab algn="l" pos="1027080"/>
                <a:tab algn="l" pos="1284120"/>
                <a:tab algn="l" pos="1541520"/>
                <a:tab algn="l" pos="1798560"/>
                <a:tab algn="l" pos="2055960"/>
                <a:tab algn="l" pos="2313000"/>
                <a:tab algn="l" pos="2570040"/>
                <a:tab algn="l" pos="2827440"/>
                <a:tab algn="l" pos="3084480"/>
                <a:tab algn="l" pos="3341520"/>
                <a:tab algn="l" pos="3598920"/>
                <a:tab algn="l" pos="3855960"/>
                <a:tab algn="l" pos="4113360"/>
                <a:tab algn="l" pos="4370400"/>
                <a:tab algn="l" pos="4627440"/>
                <a:tab algn="l" pos="4884840"/>
                <a:tab algn="l" pos="514188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 Light"/>
                <a:ea typeface="Microsoft YaHei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2"/>
          <p:cNvSpPr/>
          <p:nvPr/>
        </p:nvSpPr>
        <p:spPr>
          <a:xfrm>
            <a:off x="0" y="1076400"/>
            <a:ext cx="121921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106200" indent="-106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otting slacks in Lower Level design for paths feed by Higher Level desig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w RAT based windows giv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nearly all the benefit of doing aggressor windowing, without exposure to Higher Level design chang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06200" indent="-1062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127080"/>
                <a:tab algn="l" pos="190440"/>
                <a:tab algn="l" pos="447840"/>
                <a:tab algn="l" pos="704880"/>
                <a:tab algn="l" pos="961920"/>
                <a:tab algn="l" pos="1219320"/>
                <a:tab algn="l" pos="1476360"/>
                <a:tab algn="l" pos="1733400"/>
                <a:tab algn="l" pos="1990800"/>
                <a:tab algn="l" pos="2247840"/>
                <a:tab algn="l" pos="2505240"/>
                <a:tab algn="l" pos="2762280"/>
                <a:tab algn="l" pos="3019320"/>
                <a:tab algn="l" pos="3276720"/>
                <a:tab algn="l" pos="3533760"/>
                <a:tab algn="l" pos="3790800"/>
                <a:tab algn="l" pos="4048200"/>
                <a:tab algn="l" pos="4305240"/>
                <a:tab algn="l" pos="4562640"/>
                <a:tab algn="l" pos="4819680"/>
                <a:tab algn="l" pos="507672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10648800" y="8640720"/>
            <a:ext cx="1543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255600"/>
                <a:tab algn="l" pos="512640"/>
                <a:tab algn="l" pos="770040"/>
                <a:tab algn="l" pos="1027080"/>
                <a:tab algn="l" pos="1284120"/>
                <a:tab algn="l" pos="1541520"/>
                <a:tab algn="l" pos="1798560"/>
                <a:tab algn="l" pos="2055960"/>
                <a:tab algn="l" pos="2313000"/>
                <a:tab algn="l" pos="2570040"/>
                <a:tab algn="l" pos="2827440"/>
                <a:tab algn="l" pos="3084480"/>
                <a:tab algn="l" pos="3341520"/>
                <a:tab algn="l" pos="3598920"/>
                <a:tab algn="l" pos="3855960"/>
                <a:tab algn="l" pos="4113360"/>
                <a:tab algn="l" pos="4370400"/>
                <a:tab algn="l" pos="4627440"/>
                <a:tab algn="l" pos="4884840"/>
                <a:tab algn="l" pos="514188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icrosoft YaHe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9:36:50Z</dcterms:created>
  <dc:creator>David Hathaway, Kerim Kalafala</dc:creator>
  <dc:description/>
  <dc:language>en-US</dc:language>
  <cp:lastModifiedBy>JASON MORSEY</cp:lastModifiedBy>
  <cp:lastPrinted>2019-06-01T17:15:51Z</cp:lastPrinted>
  <dcterms:modified xsi:type="dcterms:W3CDTF">2019-06-01T17:16:38Z</dcterms:modified>
  <cp:revision>448</cp:revision>
  <dc:subject/>
  <dc:title>TTLT - 2012 CPPR plans</dc:title>
</cp:coreProperties>
</file>